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28.png" ContentType="image/png"/>
  <Override PartName="/ppt/media/image29.jpeg" ContentType="image/jpeg"/>
  <Override PartName="/ppt/media/image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7.jpeg" ContentType="image/jpeg"/>
  <Override PartName="/ppt/media/image11.png" ContentType="image/png"/>
  <Override PartName="/ppt/media/image4.wmf" ContentType="image/x-wmf"/>
  <Override PartName="/ppt/media/image3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26.jpeg" ContentType="image/jpeg"/>
  <Override PartName="/ppt/media/image18.wmf" ContentType="image/x-wmf"/>
  <Override PartName="/ppt/media/image17.wmf" ContentType="image/x-wmf"/>
  <Override PartName="/ppt/media/image14.wmf" ContentType="image/x-wmf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AAF-B233-47CF-B254-C819BA09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AB7-45CC-4F7D-936F-2C022C50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9AB-FE31-4770-94FD-6CB15CC0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3B17-A3FB-4AA4-9CE9-84DDBBC2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9CE6-07F0-429B-9089-E6E4424A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F74C-FBE6-43E9-9597-916D689B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23EF-A857-44A1-973A-F389893A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C408-4053-4A9F-9B06-E53CEB40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B087-6F04-4062-96A4-330A5FB6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CA95-A20C-4871-BDDB-8B441405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444D-8734-479E-B518-DC683BC1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FEA-F373-41A6-916F-BCB665AD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74E7-0E3A-40E5-9544-A1FAD616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5CEB-1B8B-4F4B-9487-0EFFB0AE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B7DF-02D2-4273-A3A7-C44FF2D9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40AA-419E-4012-A190-05BCBDEE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0452-DD7E-4489-9ED2-1A9A8650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E46-7DEC-4FBA-A499-D4A4873A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3E3-1495-472E-AD21-60DE5B51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485-31ED-4131-9BC7-05CBED48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367-4CB7-437D-AA9C-AAAF911F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1C0-F12B-4D38-8A54-A3691C5C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E5E-6EC5-4546-B451-ADE16F74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1A2F-8428-4D24-888B-FD2E0B91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92A0-6E1D-4A72-B98B-E7B8E9BA46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B7FD-C870-43C4-A6A5-3BB0450579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balance of 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Cooling and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 coronal ga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lecules, no neutrals, no dust, no depletion, no o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bremsstrahlung dom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etal lines (O VI, some Si, Fe) contribu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pendence on metallic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8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hot gas metallicity i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s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Z = 0.01 cooling function stays the same! (Bohringer &amp; Hensler 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for galaxy formation and subsequent halo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figure1"/>
          <p:cNvPicPr/>
          <p:nvPr/>
        </p:nvPicPr>
        <p:blipFill>
          <a:blip r:embed="rId1"/>
          <a:stretch/>
        </p:blipFill>
        <p:spPr>
          <a:xfrm>
            <a:off x="3124080" y="1295280"/>
            <a:ext cx="5943600" cy="459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gs83-f1"/>
          <p:cNvPicPr/>
          <p:nvPr/>
        </p:nvPicPr>
        <p:blipFill>
          <a:blip r:embed="rId1"/>
          <a:stretch/>
        </p:blipFill>
        <p:spPr>
          <a:xfrm>
            <a:off x="533520" y="1006560"/>
            <a:ext cx="7037280" cy="5851440"/>
          </a:xfrm>
          <a:prstGeom prst="rect">
            <a:avLst/>
          </a:prstGeom>
          <a:ln w="0">
            <a:noFill/>
          </a:ln>
        </p:spPr>
      </p:pic>
      <p:sp>
        <p:nvSpPr>
          <p:cNvPr id="125" name="Line 3"/>
          <p:cNvSpPr/>
          <p:nvPr/>
        </p:nvSpPr>
        <p:spPr>
          <a:xfrm flipV="1">
            <a:off x="7315200" y="3974760"/>
            <a:ext cx="1600200" cy="106668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 rot="16200000">
            <a:off x="-1055160" y="540720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etz &amp; Salpeter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858000" y="2603520"/>
            <a:ext cx="204624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msstrah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7848720" y="3657600"/>
            <a:ext cx="228600" cy="7621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3048120" y="1536840"/>
            <a:ext cx="4114800" cy="3581280"/>
          </a:xfrm>
          <a:prstGeom prst="line">
            <a:avLst/>
          </a:prstGeom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495680" y="1841400"/>
            <a:ext cx="152424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0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4723920" y="23749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typical cooling curv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oling of WI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71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bidden lines, and with lower impact Ly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o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ombination lin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581280" y="1606680"/>
            <a:ext cx="5096160" cy="468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oling of CN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-structure metal lines dom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aseous C is CII (excites at 91.2K), and all O is OI (excites at 228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for excitation of carbon by electr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etion is not well know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molecular fractions con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228600" y="3886200"/>
          <a:ext cx="868680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86200"/>
                    <a:ext cx="86868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99-f15"/>
          <p:cNvPicPr/>
          <p:nvPr/>
        </p:nvPicPr>
        <p:blipFill>
          <a:blip r:embed="rId1"/>
          <a:srcRect l="0" t="0" r="0" b="15555"/>
          <a:stretch/>
        </p:blipFill>
        <p:spPr>
          <a:xfrm>
            <a:off x="2597040" y="0"/>
            <a:ext cx="6546960" cy="68565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54100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nuclear species lik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not have low-lying energy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r polar species (CO, OH, CN, HCN) contribute most to cooling in 10 K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oling controver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 structure lines most important at surfaces of PD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 rot="16200000">
            <a:off x="-1458000" y="4499280"/>
            <a:ext cx="346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feld, Lepp, &amp; Melnick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oling of molecular g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n95-f2a"/>
          <p:cNvPicPr/>
          <p:nvPr/>
        </p:nvPicPr>
        <p:blipFill>
          <a:blip r:embed="rId1"/>
          <a:stretch/>
        </p:blipFill>
        <p:spPr>
          <a:xfrm>
            <a:off x="1219320" y="1371600"/>
            <a:ext cx="6400800" cy="51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95-f2b"/>
          <p:cNvPicPr/>
          <p:nvPr/>
        </p:nvPicPr>
        <p:blipFill>
          <a:blip r:embed="rId1"/>
          <a:stretch/>
        </p:blipFill>
        <p:spPr>
          <a:xfrm>
            <a:off x="1066680" y="558720"/>
            <a:ext cx="7729560" cy="601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oling by C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7205400" cy="43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Object 5"/>
          <p:cNvGraphicFramePr/>
          <p:nvPr/>
        </p:nvGraphicFramePr>
        <p:xfrm>
          <a:off x="3352680" y="5867280"/>
          <a:ext cx="4783320" cy="51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5867280"/>
                    <a:ext cx="47833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oling in opaque g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ssion from an optically thick line reaches the blackbody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gradients allow escape of radiation through line w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molecular and atomic lines can contribute in some regimes, but CO,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, and O most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models of chemistry required to determine full cooling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600200" y="2239920"/>
          <a:ext cx="670572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39920"/>
                    <a:ext cx="67057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ld neutral medium (CNM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e” or “atomic” or “neutral”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20-5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olume fil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1-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~ 100-300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observational tools: 21 cm (both emission and absorption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ergy Equ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380880" y="1295280"/>
          <a:ext cx="785808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785808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4"/>
          <p:cNvSpPr/>
          <p:nvPr/>
        </p:nvSpPr>
        <p:spPr>
          <a:xfrm>
            <a:off x="5867640" y="306216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7370640" y="306216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V="1">
            <a:off x="6400800" y="2286000"/>
            <a:ext cx="457200" cy="838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 flipH="1" flipV="1">
            <a:off x="7695720" y="2286000"/>
            <a:ext cx="304920" cy="838080"/>
          </a:xfrm>
          <a:prstGeom prst="line">
            <a:avLst/>
          </a:prstGeom>
          <a:ln w="4428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8"/>
          <p:cNvGraphicFramePr/>
          <p:nvPr/>
        </p:nvGraphicFramePr>
        <p:xfrm>
          <a:off x="380880" y="2971800"/>
          <a:ext cx="4724640" cy="355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971800"/>
                    <a:ext cx="472464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9"/>
          <p:cNvGraphicFramePr/>
          <p:nvPr/>
        </p:nvGraphicFramePr>
        <p:xfrm>
          <a:off x="4419720" y="5181480"/>
          <a:ext cx="4494240" cy="136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5181480"/>
                    <a:ext cx="4494240" cy="1368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rmal (Field) inst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914400" y="1447920"/>
          <a:ext cx="7162920" cy="52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16292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066680" y="457200"/>
          <a:ext cx="7018560" cy="59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018560" cy="59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 Box 3"/>
          <p:cNvSpPr/>
          <p:nvPr/>
        </p:nvSpPr>
        <p:spPr>
          <a:xfrm>
            <a:off x="3886200" y="5562720"/>
            <a:ext cx="4927680" cy="100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as T increas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ystem is unst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THERMAL STABILITY DEFINES PHASES OF ISM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4040" y="3505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wo-Phase Mode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w95-f3ab"/>
          <p:cNvPicPr/>
          <p:nvPr/>
        </p:nvPicPr>
        <p:blipFill>
          <a:blip r:embed="rId1"/>
          <a:srcRect l="0" t="0" r="0" b="52335"/>
          <a:stretch/>
        </p:blipFill>
        <p:spPr>
          <a:xfrm>
            <a:off x="1600200" y="2217600"/>
            <a:ext cx="6237360" cy="3862440"/>
          </a:xfrm>
          <a:prstGeom prst="rect">
            <a:avLst/>
          </a:prstGeom>
          <a:ln w="0">
            <a:noFill/>
          </a:ln>
        </p:spPr>
      </p:pic>
      <p:sp>
        <p:nvSpPr>
          <p:cNvPr id="176" name="Line 4"/>
          <p:cNvSpPr/>
          <p:nvPr/>
        </p:nvSpPr>
        <p:spPr>
          <a:xfrm>
            <a:off x="2286000" y="3581280"/>
            <a:ext cx="541008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2286000" y="4267080"/>
            <a:ext cx="541008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2286000" y="2895480"/>
            <a:ext cx="541008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428120" y="6186600"/>
            <a:ext cx="20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lfire et al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055040" y="6019920"/>
            <a:ext cx="1833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(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of cold phases fixed by points of stability on phase diagram as in two-phas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Picture1"/>
          <p:cNvPicPr/>
          <p:nvPr/>
        </p:nvPicPr>
        <p:blipFill>
          <a:blip r:embed="rId1"/>
          <a:stretch/>
        </p:blipFill>
        <p:spPr>
          <a:xfrm>
            <a:off x="2971800" y="1981080"/>
            <a:ext cx="5965920" cy="4670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Isobaric) Thermal Inst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 flipH="1">
            <a:off x="4876920" y="350532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4191120" y="6095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152280" y="1905120"/>
            <a:ext cx="28958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rb temperature of points along the equilibrium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if they return to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of cold phases fix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s of st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phase diagram as in two-phas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urbulent flo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 models only appropriate for quasi-static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mpressions and rarefactions occur on the cooling timescale, then gas will lie far from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ely, rapid cooling or heating can generate turbulen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oling catastroph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in the coron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pressure equilibr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densit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 in the cooling rate 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rease in T  (constant pressu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T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ression of gas = further increase in densit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crucial for galaxy form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AMPLE: The Cooling Flow Probl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33240" y="4884840"/>
            <a:ext cx="810288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ol-Core Clusters: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ool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lt; Hubbl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dy state =&gt; Cooling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yr &gt;&gt; SFR  =&gt; Heating sources: A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638600" y="1287360"/>
            <a:ext cx="3859200" cy="3546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503280" y="1287360"/>
            <a:ext cx="3895560" cy="353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817560" y="576360"/>
            <a:ext cx="7343640" cy="6232320"/>
          </a:xfrm>
          <a:prstGeom prst="rect">
            <a:avLst/>
          </a:prstGeom>
          <a:ln w="0">
            <a:noFill/>
          </a:ln>
        </p:spPr>
      </p:pic>
      <p:sp>
        <p:nvSpPr>
          <p:cNvPr id="196" name="Up Arrow 4"/>
          <p:cNvSpPr/>
          <p:nvPr/>
        </p:nvSpPr>
        <p:spPr>
          <a:xfrm>
            <a:off x="322200" y="576360"/>
            <a:ext cx="495360" cy="2674800"/>
          </a:xfrm>
          <a:prstGeom prst="up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9191c3"/>
              </a:gs>
              <a:gs pos="100000">
                <a:srgbClr val="bebeff"/>
              </a:gs>
            </a:gsLst>
            <a:lin ang="16200000"/>
          </a:gradFill>
          <a:ln w="9360">
            <a:solidFill>
              <a:srgbClr val="c6c6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Up Arrow 6"/>
          <p:cNvSpPr/>
          <p:nvPr/>
        </p:nvSpPr>
        <p:spPr>
          <a:xfrm flipV="1">
            <a:off x="322200" y="3842640"/>
            <a:ext cx="495360" cy="2539800"/>
          </a:xfrm>
          <a:prstGeom prst="up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9191c3"/>
              </a:gs>
              <a:gs pos="100000">
                <a:srgbClr val="bebeff"/>
              </a:gs>
            </a:gsLst>
            <a:lin ang="16200000"/>
          </a:gradFill>
          <a:ln w="9360">
            <a:solidFill>
              <a:srgbClr val="c6c6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Up Arrow 8"/>
          <p:cNvSpPr/>
          <p:nvPr/>
        </p:nvSpPr>
        <p:spPr>
          <a:xfrm>
            <a:off x="8292960" y="3843360"/>
            <a:ext cx="495360" cy="2676600"/>
          </a:xfrm>
          <a:prstGeom prst="up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9191c3"/>
              </a:gs>
              <a:gs pos="100000">
                <a:srgbClr val="bebeff"/>
              </a:gs>
            </a:gsLst>
            <a:lin ang="16200000"/>
          </a:gradFill>
          <a:ln w="9360">
            <a:solidFill>
              <a:srgbClr val="c6c6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stribution of CN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I_C158_maps"/>
          <p:cNvPicPr/>
          <p:nvPr/>
        </p:nvPicPr>
        <p:blipFill>
          <a:blip r:embed="rId1"/>
          <a:stretch/>
        </p:blipFill>
        <p:spPr>
          <a:xfrm>
            <a:off x="4648320" y="304920"/>
            <a:ext cx="4298760" cy="5562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nHI_alt_skyview_big"/>
          <p:cNvPicPr/>
          <p:nvPr/>
        </p:nvPicPr>
        <p:blipFill>
          <a:blip r:embed="rId2"/>
          <a:stretch/>
        </p:blipFill>
        <p:spPr>
          <a:xfrm>
            <a:off x="380880" y="1828800"/>
            <a:ext cx="4191120" cy="239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: The Galactic founta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GalacticFountain"/>
          <p:cNvPicPr/>
          <p:nvPr/>
        </p:nvPicPr>
        <p:blipFill>
          <a:blip r:embed="rId1"/>
          <a:stretch/>
        </p:blipFill>
        <p:spPr>
          <a:xfrm>
            <a:off x="3886200" y="1600200"/>
            <a:ext cx="4952880" cy="352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2" name="Picture 6" descr="Galactic_fountains_orig"/>
          <p:cNvPicPr/>
          <p:nvPr/>
        </p:nvPicPr>
        <p:blipFill>
          <a:blip r:embed="rId2"/>
          <a:stretch/>
        </p:blipFill>
        <p:spPr>
          <a:xfrm>
            <a:off x="228600" y="3048120"/>
            <a:ext cx="6400800" cy="36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ism_ecology"/>
          <p:cNvPicPr/>
          <p:nvPr/>
        </p:nvPicPr>
        <p:blipFill>
          <a:blip r:embed="rId1"/>
          <a:stretch/>
        </p:blipFill>
        <p:spPr>
          <a:xfrm>
            <a:off x="76320" y="76320"/>
            <a:ext cx="8991360" cy="672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Picture1"/>
          <p:cNvPicPr/>
          <p:nvPr/>
        </p:nvPicPr>
        <p:blipFill>
          <a:blip r:embed="rId1"/>
          <a:stretch/>
        </p:blipFill>
        <p:spPr>
          <a:xfrm>
            <a:off x="-304920" y="-762120"/>
            <a:ext cx="9753840" cy="8325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3520" y="5913000"/>
            <a:ext cx="8076960" cy="63972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ANK YOU FOR YOUR ATTENTION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ating mechanisms in CN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electric heating from g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ic ray 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ization of metals (mainly 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photo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heating (ineffic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magnetic waves dissipation (ineffic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bon photoioniz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NM – negligible density of photons with 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3.6 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(CI) = 11.3 e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efficiency du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undance 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ompared to 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ly photons in the narrow range (912,1100)Å can ioniz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ximum energy release per ionization is 2.3 eV (calculation shows that &lt;E&gt;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1 eV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NM_heating"/>
          <p:cNvPicPr/>
          <p:nvPr/>
        </p:nvPicPr>
        <p:blipFill>
          <a:blip r:embed="rId1"/>
          <a:stretch/>
        </p:blipFill>
        <p:spPr>
          <a:xfrm>
            <a:off x="1143000" y="762120"/>
            <a:ext cx="6907320" cy="530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oling is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ss of kinetic energy by at least some ISM sub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by radiation (conduction, convection neglig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ve cool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ailable energy levels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llisional exc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radi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t gas: bremsstrahlu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arm gas: forbidden lines of metals, some HI li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ld gas: molecular lines (rotational + vibrational), atomic fine structure li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4191120" y="3276720"/>
          <a:ext cx="382896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276720"/>
                    <a:ext cx="3828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fficiency of cooling depends on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l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le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f metals on du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a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ptically thin vs. thick for the outgoing pho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oling curve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cooling rates as functions of temperatur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our knowledge of cool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rmally s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alculated semi-empir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624560" y="152280"/>
            <a:ext cx="4262400" cy="647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03:29Z</dcterms:created>
  <dc:creator>Milan M. Cirkovic</dc:creator>
  <dc:description/>
  <dc:language>en-US</dc:language>
  <cp:lastModifiedBy>Administrator</cp:lastModifiedBy>
  <dcterms:modified xsi:type="dcterms:W3CDTF">2014-11-24T16:16:56Z</dcterms:modified>
  <cp:revision>13</cp:revision>
  <dc:subject/>
  <dc:title>Slide 1</dc:title>
</cp:coreProperties>
</file>