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.png" ContentType="image/png"/>
  <Override PartName="/ppt/media/image3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6.png" ContentType="image/png"/>
  <Override PartName="/ppt/media/image47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4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803B-26A2-476F-9173-0DB63E77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3A23-9FCC-4AB7-A575-5B4A0B0B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A943-2B9D-4CCF-882E-FB4A97B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6D13-89D0-40B6-A347-90BD4023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A90E-4E1E-4DC6-8620-F8A18FD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BEA-14BB-4A49-8FB5-6F39BDC0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29B7-7C69-4917-B346-2C2B6257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AC6-6EEF-4CDD-981F-60F8BCF5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3AF9-6FBD-411C-BB6E-C9C30EDC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CA0A-AC61-4160-912E-9035882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DE4C-C457-490B-B9B6-C1DCE68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E0DB-7A8C-43B7-A82C-F9AB1F7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E337-EA1D-4E22-A8DD-9DF3A1F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854E-51A6-456E-9E7A-B067DC2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E267-4479-4C39-A901-D38A37F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4A3F-AA90-41ED-9A38-5A5C1DF7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8C1E-F827-47C5-A79C-2BB561FC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724F-8054-47F1-BCA7-C08D327A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2654-F5E1-4BBB-8E14-6C81F97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F0F3-39D2-4AE8-914E-F6311B3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1FAD-C75D-4CD7-A2D9-5B5FEFFA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8579-47E1-4029-B100-1976BDD9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4903-9681-44B6-BCC2-5BA8270B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8156-75D6-45AA-A90A-228FFF5F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EFF2-B83E-4945-A0F1-904D4B1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2D69-94B6-49E1-A694-C0C4A94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DE3B-E31B-414E-B8A7-69529C1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3A88-1707-419F-88EF-9EE3F559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83A9-8927-42B5-958E-9B9C4263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41E7-610B-4ABF-8ED7-D5DC2110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24BF-E064-48F7-AB17-CFA8AB0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5365-89B6-4FFE-B837-170571C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8250-CF2E-4E22-9430-AA4C69BC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B747-253D-477E-82B4-47DF73B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754F-2F0F-4D59-AEC8-A4C8C58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CCCA-5552-4D97-813E-FC54C80B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9E57-349D-4EB0-B3BD-63FA376E4D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A95-4E0B-40DD-8C53-901DAB2D60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BE7D-CD18-47F3-97CE-2EA3907B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ck Waves: III. the Acceleration of CRs (Theoretical Fundament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 of Charged Particles in a Disordered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ffusion coefficients – parallel and perpendicular to the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uctuations of the transverse component of the mean magnetic fiel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resenting the direction of the magnetic field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being the spectral density of fluctuations with a spatial frequenc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743200" y="3633840"/>
            <a:ext cx="28195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mogorov distribution characteristic of turbul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x trajectory but with progressively changes of direction of guiding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turns moving direction has changed by an 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hes ~ 1, the particle has no memory of its initial direction (correlation between the initial and present directions ~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rticle has experienced a diffuse shock!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286000" cy="479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24620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 free path of the particle between two such diffuse sh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article velocity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diffusing shock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usion coeffici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fini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he flux of the quant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dire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long which there is a gradi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∂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∂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743200" y="1282680"/>
            <a:ext cx="3133800" cy="1185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1531800" cy="47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1568160" cy="420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124080" y="4800600"/>
            <a:ext cx="1973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equation of conservation of matter in an infinitely thin layer perpendicular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usion coefficient is related to the mean free pat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ongitudinal diffusion coefficient (parallel to the field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971800" cy="531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2209680" cy="1170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048120" y="4051440"/>
            <a:ext cx="2004840" cy="460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57200" y="5486400"/>
            <a:ext cx="373392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181480" y="5257800"/>
            <a:ext cx="24415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verse diffus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m diffusion coefficient (the geometric mean of the two coefficien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verse is smaller than longitudinal diffusion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sult which depends on starting assump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iffusion of random walk of the field lines – transverse transport of particles is very important!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416480" cy="1073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4316400" cy="56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47920" y="4952880"/>
            <a:ext cx="2514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s ionize gas through electromagnetic interactions – heating by low-energy C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loss is given by Bethe-Bloch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025800" cy="1109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14600" y="4232160"/>
            <a:ext cx="3868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ermi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77760" y="1600200"/>
            <a:ext cx="718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and momentum of the CR particle with respect to the reference frame of the magnetic perturbation that moving at veloc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of a particle is conserved in an encount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E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hile momentum has opposite direction after collision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3038400" cy="44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3438360" cy="480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50848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rame of reference of an ob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change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4757760" cy="563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4211640" cy="541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219320" y="4952880"/>
            <a:ext cx="601956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i acceleration (“Type A” in Fermi (1949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6400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of Charged Particles in a Magnetic Field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ous Magnetic 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029200" cy="1198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9480" y="3116160"/>
            <a:ext cx="7696440" cy="1416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62120" y="4800600"/>
            <a:ext cx="34779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i acceleration (“Type B” in Fermi (1949)) – affirmed in this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72388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th cas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l-GR" sz="6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E / E ~ </a:t>
            </a: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v / c</a:t>
            </a: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6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-relativistic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tron emiss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-ray emission by non-thermal bremsstrahlung, inverse Compton scattering, and pion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Rs, A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 shock acceleration – first order Fermi acceleration    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 / E ~ v /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(1978a,b), Blandford &amp; Ostriker (1978, 1980), Drury (1983a,b), Malkov &amp; Drury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4419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rder Fermi acceleration – turbulences in downstream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&amp; Chevalier (1975), Galinsky &amp; Shevchenko (200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219320" y="3594240"/>
            <a:ext cx="69339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ffffcc"/>
                </a:solidFill>
                <a:latin typeface="Tahoma"/>
              </a:rPr>
              <a:t>THANKS!!!</a:t>
            </a:r>
            <a:endParaRPr b="0" lang="en-US" sz="9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00400" y="3428640"/>
            <a:ext cx="54864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724640" cy="1028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1725480" cy="906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3674880" cy="532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09480" y="5334120"/>
            <a:ext cx="6410520" cy="103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04920" y="4572000"/>
            <a:ext cx="8458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 with a Transverse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mor frequenc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476760" cy="88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362320" cy="368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6019560" cy="878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914400" y="5715000"/>
            <a:ext cx="304812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express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circular motion =&gt; time avera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h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interested to a componen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pendicular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6016680" cy="865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4647960" cy="933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90720" y="6121440"/>
            <a:ext cx="5562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After one gyration of the particle, the guiding center has mov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499360" cy="409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471920" cy="118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3197160" cy="815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743200" y="5943600"/>
            <a:ext cx="34290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 with a Longitudinal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gular moment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article around its guiding cente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ntity 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remains const. – it is adiabatic invar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7257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verse adiabatic invariant (magnetic mir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o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co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0060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tudinal adiabatic invar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1/(2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∫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 ~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6400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20:42:22Z</dcterms:created>
  <dc:creator>Astro</dc:creator>
  <dc:description/>
  <dc:language>en-US</dc:language>
  <cp:lastModifiedBy>Astronomija</cp:lastModifiedBy>
  <dcterms:modified xsi:type="dcterms:W3CDTF">2011-06-02T17:26:22Z</dcterms:modified>
  <cp:revision>1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81098034</vt:r8>
  </property>
  <property fmtid="{D5CDD505-2E9C-101B-9397-08002B2CF9AE}" pid="3" name="_AuthorEmail">
    <vt:lpwstr>sstanimi@atenas.com</vt:lpwstr>
  </property>
  <property fmtid="{D5CDD505-2E9C-101B-9397-08002B2CF9AE}" pid="4" name="_AuthorEmailDisplayName">
    <vt:lpwstr>Snezana Stanimirovic</vt:lpwstr>
  </property>
  <property fmtid="{D5CDD505-2E9C-101B-9397-08002B2CF9AE}" pid="5" name="_EmailSubject">
    <vt:lpwstr>prezentacija</vt:lpwstr>
  </property>
  <property fmtid="{D5CDD505-2E9C-101B-9397-08002B2CF9AE}" pid="6" name="_ReviewingToolsShownOnce">
    <vt:lpwstr/>
  </property>
</Properties>
</file>