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19C4-BF32-46C5-9004-0E99FB4D45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D805-2DB1-4986-B5D1-1405CBCD3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76B-751B-4D08-A28D-EE1AADB9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259-62D9-4C15-BCDB-121FE3A1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4C9F6-D182-4E01-B842-CC07630B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747E2-139A-4433-BD7E-C325B777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E2656-381C-438C-B9F5-AA7B8B0E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33560-40BE-4274-BED3-138B8827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517F0-E4DE-455A-9395-D55A4BA9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885A2-ED18-4DCA-A23D-5C8B220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F06FF-9F48-4890-9075-57DC2418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C663D-93BB-44B0-859A-0EA270F8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D1470-172C-4AE4-8AAE-745DAD27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2F0BA-2B7B-455B-BA29-5D96134D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536-2423-4D97-8451-5857C7D9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2EA7E-DF78-4A2F-81FA-C5DE95BD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A521A-D430-440E-B631-34E5781A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6F21A-E4CE-4F8C-BEF8-EC4B9480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31286-8B7B-4D58-883D-93DEB37D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7894A-9237-43F7-AAB0-456055F4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09DC0-500E-4473-9860-FE5BFD9D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1A25-B397-4631-A84A-D08F3BE2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A754C-40D4-472F-95F1-A8389CED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BCF59-53C7-4DA2-9507-CD5ECC79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D7E07-0364-4657-8D41-4BD377B3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329-0D0E-4F02-89A2-E74DED28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3020C-264A-49B1-96BD-8DEAEA7E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F5151-3086-4066-AA8C-DD516B7B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BB7EF-81D9-43AB-8E9B-FF54B2FB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9A0AA-144B-4148-80BC-7504F559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9F869-CF03-4B67-B684-D9CFC089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D7F1C-9D16-4365-AFC0-9475EEB0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CA6C0-1CD0-45E3-9604-AD81358D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F1F00-39E5-4541-825C-53F13752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D1D92-7096-49C8-84F4-09D8B119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02911-218F-479A-9302-64EA2FC6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C798-2E46-43A4-BC6E-02D86982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FEC4D-09F2-441A-AA0F-04BC21BE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F52B7-8C95-4FC8-9B8F-18F5D3FF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557F2-7C1F-4349-8EBB-4E9193A1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4248C-027D-4C5A-823B-DDA6F179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3117A-EE07-44E0-834C-D03A1217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6504D-67B8-4BA1-A2BA-90C01041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95BA7-BCFE-47BC-A275-83BDFD3F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EFB91-B325-4F01-A43E-2FBC6C8D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FF996-2A34-461A-BD16-F1D3F5F3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3D6DC-B7B1-4B57-9BCA-ECF534AB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BC45-015E-4ED2-BDFA-F61C8697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1B47E-F82B-453E-B755-A9484F7B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0FDC9-24A5-494B-A1DF-67A28B8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56869-CE33-4877-BDEF-F53AF11C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D10E2-B586-452C-83C6-31B793A7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EE41A-E9B4-4E09-B817-785C6582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56808-68D9-4CA5-A092-915B12C6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2D73D-C7F5-459B-83D9-3C5D98E4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28B61-3E9B-4659-9965-94C36DF6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46291-11F0-4B72-9C62-927EC30E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96EAE-1DB5-48DC-82AC-5CF45702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D5DA-FE79-4D9A-ADE4-5EBA34A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2FDCE-4ED0-46F3-B8A4-4F3A06EB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CE750-008A-4BF7-8390-30A7E369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02AE6-E641-45B0-A489-D2557BCD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FEFC9-3A28-4FC4-9427-DBCBE664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C4DC4-56EC-4DAC-BCA9-A23A09FE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57898-6F22-474B-9210-5DC4FCBB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63C39-092D-48C2-8E77-0DF5768D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2C5C-C838-48E6-A7D2-0EC6C6C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8B0F-74E7-4864-BE97-8ACDDEB1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DFB1-09F7-4863-810B-46DAE6AE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67AA-6D04-447D-960F-7BC6CD18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B4A-CCA9-4930-9212-A475DD89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5DC4-F654-48E9-9B2D-636DA5B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92F3-6039-4CA4-A0F8-7C26B5FB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7DCF-7F02-46B9-A76F-9CDD8B4B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43D6-7CE5-4705-B737-FCE76A02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8992-5CBD-4AEE-924C-2F36878E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6644-5A7D-4B5F-BC57-8C208918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22E7-101D-4EF4-93AC-E053A464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FEF9-03F5-4777-B2A3-02270A4C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DF3A-8DCD-468F-8FAD-C970E632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51B51-E602-4320-89EB-3F91AC7B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77C-016E-411C-A799-8CC2359D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9561-C002-431C-8B60-00CF6D1B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715C9-652D-4913-9E71-78387E4E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FD86-E00F-4505-84D7-AFFD9D6A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CA43-9F57-4294-9B9C-40CF83F3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2E6E-2A39-488B-87BF-DCCC3A18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9542-1F25-4B89-95DD-AAC6A49B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376A-FE60-432D-B220-F98AEAF4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48A31-AA85-4AAE-A56D-33CA7BF0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67AF4-58B3-4D8E-A6D2-4C9EE247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EAF11-ADFA-4129-A3DB-7BECFDCF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052-D956-4371-8F05-1F110AD3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3FCB8-EB77-4A18-A452-D3D2D211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7B418-5E3C-4EFB-8A2A-DD6E816C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29BE1-8DD4-452D-A8D1-219BB8B8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5ACBE3-46AC-4A43-AB61-08EE93B7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8F977-1CB3-405B-9FC9-B9E8BEE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01096-F92A-4D76-987C-24740DB1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D16DC-654A-4776-BE39-AE8137B5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331B0-59D4-4D6A-96F7-02123692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2820B-3ACE-48CE-9EEB-81CCF27D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8F4C7-FDE7-439A-A16E-68A13226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E51-E3EB-4C67-89E1-4642D1D4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60A61-5797-45AB-AE0A-9AC3D5F4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22E97-6147-48E6-BD65-39BA262A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676FB-1D77-468E-BC92-C15D13CC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202D3-F10F-432F-92FB-4E39F6B2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67DEE-CE0B-4A5A-AA8E-59B9CEA7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0CE84-D25B-4B04-8E4B-3AFAF631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73968-1E99-401C-A191-DC1411E9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61E72-D2AD-4DFE-816D-F7DDA6B5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6D41E-A782-460E-91AE-9597EBFF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DE8EC-0A7D-4F6D-865B-D8405D22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3B9-21E0-46D1-B880-8C7034F4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6BA83-C75F-4145-BA3A-3E3C8CCB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28AB8-9779-41C9-A973-C0F6F9F9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825A-DD2B-46B9-B5A3-46FDD5DA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2955E-1C07-4FED-882F-11C4908A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11BA6-BDEF-47EC-B044-4406E366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3813A-5C34-4F39-A390-B8125538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22BBC-52EE-4E39-8820-154DCBF1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47C2E-DDBD-470C-A270-75A37458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61DC-8359-4899-B0E5-F65144F0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3C99B-6A6D-4FC6-8E0E-D28928A8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304-EC6A-4648-9188-BCD559CB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B5501-B7E2-4953-A6A8-9927FD98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432CA-47F6-4E55-BB78-E7CD49B6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FB6C5-2312-4D82-84A3-863C08F0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2FC71-C9F8-4D37-A38F-FDF3A76F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D7D7B-AD4A-4B75-8F2B-8946554E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CE1EE-6AB4-4C6F-991B-C9F2DDB0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E77E6-4ED9-4AA9-9DD5-F466CDE1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114C4-63DD-4429-8991-BFE357A7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32321-00C6-46FB-9A87-3F53BE3C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A1E08-5795-423A-A81B-68791641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953-4C0A-48F9-B4D5-26030EA4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8B51C-5FC7-4F19-AFB0-3AF1A176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1D1E8-1AE3-4445-ABC4-F589D980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DDD42-A6BC-4E5A-98F8-1FF8FE69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291E7-989F-41A4-BF3C-424E172C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96EF9-6A6D-4059-99E3-1DA9DB98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F311FE-A42B-49E8-985F-8F540670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5D623C-D2BF-4B10-B868-4DF4CC48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B0004B-C9C4-477E-80C2-5A1F541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68F54E-80DC-4AB7-A01E-A918175C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52851-A70E-4F86-9B92-C281AE23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7D0-D7AE-4939-A2A2-B332136F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7DE80-9A45-4B5F-B4B7-DECA3843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678158-37E8-41B5-8944-12165A15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BB8A5B-CC93-4042-A10A-CE73A3C1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E6F86E-A656-4640-B522-BFB2C6FB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55BB31-34C0-4CE9-A8C6-DC581474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0C42C5-1E68-41BC-8B06-35DDC93D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2C3BC1-43CA-4B69-831F-0BA60FAD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C1B49-EDED-4ED9-89C9-6CF80E0F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228F3-F338-4E37-B04A-AEF43EBC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2FB3A-5FEF-4FE7-95CB-4593B645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A8B-E586-47F0-9784-C712A37D4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5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6B59-295F-41DE-BEF0-23C69A2B50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3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3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929A-900C-4CF5-917D-FD86A8A98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8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2BAF-E585-49F3-9F47-C62699ADB0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4066-C3C9-41DC-8A2A-FD03FB67EA7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D236-834D-4B81-98F1-CF21DBA4A50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8EC8-EE4B-44EB-8D15-D564F03F8E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54A0-61C7-46D7-950C-6FC527842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AB9F-A9BD-4761-86CF-736C0D0FE9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9931-F6E1-4348-B044-A3069D385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7766-B1D0-4A7F-A043-8F0F8E4BF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9068-74AD-4ECF-BC66-F9281B32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1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1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7CF2-1C8D-43B5-93B9-459B4AFD7D8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cloudlets"/>
          <p:cNvPicPr/>
          <p:nvPr/>
        </p:nvPicPr>
        <p:blipFill>
          <a:blip r:embed="rId1"/>
          <a:stretch/>
        </p:blipFill>
        <p:spPr>
          <a:xfrm>
            <a:off x="0" y="0"/>
            <a:ext cx="9144000" cy="701352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3"/>
          <p:cNvSpPr/>
          <p:nvPr/>
        </p:nvSpPr>
        <p:spPr>
          <a:xfrm>
            <a:off x="533520" y="16686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685800" y="23623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ck Waves: I. Introduc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ock Waves – Viscous Shoc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x ~ l,  l 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mean free path for elastic collision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2" name="Picture 4" descr="15"/>
          <p:cNvPicPr/>
          <p:nvPr/>
        </p:nvPicPr>
        <p:blipFill>
          <a:blip r:embed="rId1"/>
          <a:stretch/>
        </p:blipFill>
        <p:spPr>
          <a:xfrm>
            <a:off x="762120" y="3311640"/>
            <a:ext cx="77724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eepening of Acoustic Waves Into Shock Wav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5" name="Picture 4" descr="15"/>
          <p:cNvPicPr/>
          <p:nvPr/>
        </p:nvPicPr>
        <p:blipFill>
          <a:blip r:embed="rId1"/>
          <a:stretch/>
        </p:blipFill>
        <p:spPr>
          <a:xfrm>
            <a:off x="762120" y="2413080"/>
            <a:ext cx="7696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eepening of Acoustic Waves Into Shock Wav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8" name="Picture 4" descr="15"/>
          <p:cNvPicPr/>
          <p:nvPr/>
        </p:nvPicPr>
        <p:blipFill>
          <a:blip r:embed="rId1"/>
          <a:stretch/>
        </p:blipFill>
        <p:spPr>
          <a:xfrm>
            <a:off x="762120" y="2887560"/>
            <a:ext cx="7772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shock wa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4" descr="14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17114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5" descr="14"/>
          <p:cNvPicPr/>
          <p:nvPr/>
        </p:nvPicPr>
        <p:blipFill>
          <a:blip r:embed="rId2"/>
          <a:stretch/>
        </p:blipFill>
        <p:spPr>
          <a:xfrm>
            <a:off x="1676520" y="3276720"/>
            <a:ext cx="548640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shock wa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cks on an infinite wedge with a small opening ang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4" descr="14"/>
          <p:cNvPicPr/>
          <p:nvPr/>
        </p:nvPicPr>
        <p:blipFill>
          <a:blip r:embed="rId1"/>
          <a:stretch/>
        </p:blipFill>
        <p:spPr>
          <a:xfrm>
            <a:off x="1752480" y="2895480"/>
            <a:ext cx="57913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shock wa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w sh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4" descr="14"/>
          <p:cNvPicPr/>
          <p:nvPr/>
        </p:nvPicPr>
        <p:blipFill>
          <a:blip r:embed="rId1"/>
          <a:stretch/>
        </p:blipFill>
        <p:spPr>
          <a:xfrm>
            <a:off x="1371600" y="2835360"/>
            <a:ext cx="64771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shock wa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il shoc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4" descr="14"/>
          <p:cNvPicPr/>
          <p:nvPr/>
        </p:nvPicPr>
        <p:blipFill>
          <a:blip r:embed="rId1"/>
          <a:stretch/>
        </p:blipFill>
        <p:spPr>
          <a:xfrm>
            <a:off x="1066680" y="2666880"/>
            <a:ext cx="693432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shock wa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rther away from the aircraft – shock wave degenerates to a acoustic wave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4" descr="14"/>
          <p:cNvPicPr/>
          <p:nvPr/>
        </p:nvPicPr>
        <p:blipFill>
          <a:blip r:embed="rId1"/>
          <a:stretch/>
        </p:blipFill>
        <p:spPr>
          <a:xfrm>
            <a:off x="1905120" y="2759040"/>
            <a:ext cx="52578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shock wa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w shock ~ normal sh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4" descr="15"/>
          <p:cNvPicPr/>
          <p:nvPr/>
        </p:nvPicPr>
        <p:blipFill>
          <a:blip r:embed="rId1"/>
          <a:stretch/>
        </p:blipFill>
        <p:spPr>
          <a:xfrm>
            <a:off x="914400" y="2362320"/>
            <a:ext cx="7543800" cy="14335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5" descr="15"/>
          <p:cNvPicPr/>
          <p:nvPr/>
        </p:nvPicPr>
        <p:blipFill>
          <a:blip r:embed="rId2"/>
          <a:stretch/>
        </p:blipFill>
        <p:spPr>
          <a:xfrm>
            <a:off x="1828800" y="3768840"/>
            <a:ext cx="55627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shock wa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ow supersonic flow of a body with a sharp n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4" descr="16"/>
          <p:cNvPicPr/>
          <p:nvPr/>
        </p:nvPicPr>
        <p:blipFill>
          <a:blip r:embed="rId1"/>
          <a:stretch/>
        </p:blipFill>
        <p:spPr>
          <a:xfrm>
            <a:off x="1600200" y="2743200"/>
            <a:ext cx="59641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160" y="-305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ck Waves - 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90360" y="6091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hematical descri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dimensional manifold 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four dimensional space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, x, y, 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) – surfaces in three dimensional Euclidean spa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1" name="Picture 4" descr="2"/>
          <p:cNvPicPr/>
          <p:nvPr/>
        </p:nvPicPr>
        <p:blipFill>
          <a:blip r:embed="rId1"/>
          <a:stretch/>
        </p:blipFill>
        <p:spPr>
          <a:xfrm>
            <a:off x="1905120" y="3116160"/>
            <a:ext cx="55623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shock wa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dy with a blunt nose flying supersonically at any sp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" descr="16"/>
          <p:cNvPicPr/>
          <p:nvPr/>
        </p:nvPicPr>
        <p:blipFill>
          <a:blip r:embed="rId1"/>
          <a:stretch/>
        </p:blipFill>
        <p:spPr>
          <a:xfrm>
            <a:off x="1981080" y="3048120"/>
            <a:ext cx="52340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shock wa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SHOC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mp in veloc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l-GR" sz="6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u = u</a:t>
            </a:r>
            <a:r>
              <a:rPr b="0" i="1" lang="en-US" sz="6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-u</a:t>
            </a:r>
            <a:r>
              <a:rPr b="0" i="1" lang="en-US" sz="6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~ 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en-US" sz="6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H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H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fven waves – transverse mod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9" name="Picture 4" descr="22"/>
          <p:cNvPicPr/>
          <p:nvPr/>
        </p:nvPicPr>
        <p:blipFill>
          <a:blip r:embed="rId1"/>
          <a:stretch/>
        </p:blipFill>
        <p:spPr>
          <a:xfrm>
            <a:off x="152280" y="3138480"/>
            <a:ext cx="4724640" cy="35053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22"/>
          <p:cNvPicPr/>
          <p:nvPr/>
        </p:nvPicPr>
        <p:blipFill>
          <a:blip r:embed="rId2"/>
          <a:stretch/>
        </p:blipFill>
        <p:spPr>
          <a:xfrm>
            <a:off x="5959440" y="3048120"/>
            <a:ext cx="2455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H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 and slow magnetoacoustic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itudinal mod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3" name="Picture 4" descr="22"/>
          <p:cNvPicPr/>
          <p:nvPr/>
        </p:nvPicPr>
        <p:blipFill>
          <a:blip r:embed="rId1"/>
          <a:stretch/>
        </p:blipFill>
        <p:spPr>
          <a:xfrm>
            <a:off x="1905120" y="3505320"/>
            <a:ext cx="56386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H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opy waves – contact discontinu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tinuities without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6" name="Picture 4" descr="hd2"/>
          <p:cNvPicPr/>
          <p:nvPr/>
        </p:nvPicPr>
        <p:blipFill>
          <a:blip r:embed="rId1"/>
          <a:stretch/>
        </p:blipFill>
        <p:spPr>
          <a:xfrm>
            <a:off x="1981080" y="3262320"/>
            <a:ext cx="54104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H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ck waves in the magnetized medium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9" name="Picture 4" descr="25"/>
          <p:cNvPicPr/>
          <p:nvPr/>
        </p:nvPicPr>
        <p:blipFill>
          <a:blip r:embed="rId1"/>
          <a:stretch/>
        </p:blipFill>
        <p:spPr>
          <a:xfrm>
            <a:off x="152280" y="2743200"/>
            <a:ext cx="3532320" cy="2151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5" descr="25"/>
          <p:cNvPicPr/>
          <p:nvPr/>
        </p:nvPicPr>
        <p:blipFill>
          <a:blip r:embed="rId2"/>
          <a:stretch/>
        </p:blipFill>
        <p:spPr>
          <a:xfrm>
            <a:off x="3809880" y="2743200"/>
            <a:ext cx="53341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Fluid Shocks in a Weakly Ionized 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shocks (continu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 sh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* sh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4" descr="shocks c + j"/>
          <p:cNvPicPr/>
          <p:nvPr/>
        </p:nvPicPr>
        <p:blipFill>
          <a:blip r:embed="rId1"/>
          <a:stretch/>
        </p:blipFill>
        <p:spPr>
          <a:xfrm>
            <a:off x="3200400" y="2259000"/>
            <a:ext cx="59436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Stationary Shock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onary shock – its properties are independent of time because a state of dynamical equilibrium has been 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tationary, due to the slowness of the ion-neutral cou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shocks of SNRs are considered as sta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ck non-stationarity can have major consequences for the chemistry and excitation of molecules such a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i.e. generally in multi-fluid slow shocks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o-Chemistry in Sh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cks in the neutral ISM can have important consequences for the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igher temperature necessary for many reactions that are impossible at low 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se of fast J shock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issociated by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d shock velocity is 45 km/s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ation and the Diagnosis of Sh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NRs, very fast J shocks, several thousands of km/s ~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velocities grater than ~ 100 km/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the J shock ionized a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duction of unobserved ionized UV radiation creates radiative precursor and heats the shocked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he visible range, J shocks with velocities 50 – 300 km/s, emit recombination lines and forbidden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inguish SNRs from HII region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ck Waves - 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chy’s problem (finding solution of MHD equations for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H, v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ρ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)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n system is indeterminate =&gt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)  is so-calle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aracteristic manif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urface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) associated with a char. manifold i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ve surfa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or briefl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f two different solutions of MHD equations take same value 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) =&gt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) is char. manif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ut first derivatives on char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) have different valu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II]/H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[OI]/H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much larger in SNRs than in HII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lphur and oxygen in HII regions are in the form of [SIII], [OII] or [OII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shocks we observe a large range of ionization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mperature in SNRs (which emit these lines) is larger two times (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K)  than in HII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result was obtained from the ratio of [OIII] lines – indicator of high electron temper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so, some ratios of lines in IR are larger in shocks than in HII reg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 velocity shocks and C shocks do not emit visible lines (gas does not reach enough temperature) → forbidden lines in IR, and the rotational and ro-vibrational line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R continuum emitted by dust heated in strong J shocks can be intense and has been observed in SN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bilities in Shoc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leigh-Taylor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Object 5"/>
          <p:cNvGraphicFramePr/>
          <p:nvPr/>
        </p:nvGraphicFramePr>
        <p:xfrm>
          <a:off x="1828800" y="1828800"/>
          <a:ext cx="520524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20524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vin-Helmholtz instability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ir over water, critical speed =12.5 knot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Object 3"/>
          <p:cNvGraphicFramePr/>
          <p:nvPr/>
        </p:nvGraphicFramePr>
        <p:xfrm>
          <a:off x="380880" y="2478240"/>
          <a:ext cx="853452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78240"/>
                    <a:ext cx="853452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700" spc="-1" strike="noStrike">
                <a:solidFill>
                  <a:srgbClr val="ffffcc"/>
                </a:solidFill>
                <a:latin typeface="Tahoma"/>
              </a:rPr>
              <a:t>THANK YOU VERY MUCH FOR YOUR ATTENTION!!!</a:t>
            </a:r>
            <a:endParaRPr b="0" lang="en-US" sz="9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ck Waves - 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ropagation of disturbances in fluids -&gt;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v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Wave surface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) represents bord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between disturbed and non-disturb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fl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- If wave is appeared as steep (~ vertical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in its profile it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ock wa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ck Waves - 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8" name="Picture 6" descr="15"/>
          <p:cNvPicPr/>
          <p:nvPr/>
        </p:nvPicPr>
        <p:blipFill>
          <a:blip r:embed="rId1"/>
          <a:stretch/>
        </p:blipFill>
        <p:spPr>
          <a:xfrm>
            <a:off x="304920" y="1676520"/>
            <a:ext cx="86104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ck Waves - 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1" name="Picture 4" descr="15"/>
          <p:cNvPicPr/>
          <p:nvPr/>
        </p:nvPicPr>
        <p:blipFill>
          <a:blip r:embed="rId1"/>
          <a:stretch/>
        </p:blipFill>
        <p:spPr>
          <a:xfrm>
            <a:off x="0" y="2084400"/>
            <a:ext cx="91440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ock Waves – HD equ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kine – Hugoniot jump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gion 1 – upstream, region 2 - downstre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conservation of m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u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= </a:t>
            </a:r>
            <a:r>
              <a:rPr b="0" i="1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u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conservation of moment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u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+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= </a:t>
            </a:r>
            <a:r>
              <a:rPr b="0" i="1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u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+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conservation of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1/2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u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+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h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=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1/2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u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+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h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h = </a:t>
            </a:r>
            <a:r>
              <a:rPr b="0" i="1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γ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/(</a:t>
            </a:r>
            <a:r>
              <a:rPr b="0" i="1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γ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1)·p/</a:t>
            </a:r>
            <a:r>
              <a:rPr b="0" i="1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ρ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pecific enthalp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ock Waves – HD equ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6" name="Picture 4" descr="15"/>
          <p:cNvPicPr/>
          <p:nvPr/>
        </p:nvPicPr>
        <p:blipFill>
          <a:blip r:embed="rId1"/>
          <a:stretch/>
        </p:blipFill>
        <p:spPr>
          <a:xfrm>
            <a:off x="762120" y="2886120"/>
            <a:ext cx="77724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ock Waves – HD equ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9" name="Picture 4" descr="15"/>
          <p:cNvPicPr/>
          <p:nvPr/>
        </p:nvPicPr>
        <p:blipFill>
          <a:blip r:embed="rId1"/>
          <a:stretch/>
        </p:blipFill>
        <p:spPr>
          <a:xfrm>
            <a:off x="838080" y="2590920"/>
            <a:ext cx="76964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20:42:22Z</dcterms:created>
  <dc:creator>Astro</dc:creator>
  <dc:description/>
  <dc:language>en-US</dc:language>
  <cp:lastModifiedBy>korisnik</cp:lastModifiedBy>
  <dcterms:modified xsi:type="dcterms:W3CDTF">2017-12-08T16:23:38Z</dcterms:modified>
  <cp:revision>76</cp:revision>
  <dc:subject/>
  <dc:title>No Slide Title</dc:title>
</cp:coreProperties>
</file>