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5.wmf" ContentType="image/x-wmf"/>
  <Override PartName="/ppt/media/image10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3.wmf" ContentType="image/x-wmf"/>
  <Override PartName="/ppt/media/image26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8F36-1F20-4065-AFE3-47CC920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C71A-2CA4-4BE7-94BA-420DE7B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C4D1-A542-4BB7-A841-29C8C381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F780-8842-4B0B-813E-46C42B42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EE64-F699-41A6-AE05-255D8596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B6C-9888-4741-B7EB-C39AAF1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B8F-F561-41B6-8343-824E0F65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ADA6-43F3-43B3-B555-2001098D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656-69FB-4EAC-8A45-241DA559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F42-FB9E-4BB1-9DA8-748C615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1FED-8F5F-4158-906C-3877112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706D-AD26-4C3F-99FD-11E46609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6E1B-0AB9-48EA-A08D-C261A74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0B6-DF0F-4E15-BC86-D3CDFDE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E89B-516C-4AB8-81A8-69B4AFA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96A4-C098-4482-A00D-11A151A3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1C8-5B0D-4B32-BC9A-7D97E109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0EA0-476E-4932-BA7B-8E840AD9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6E73-ADC7-466E-9FEA-CD6B08F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42CE-EAB8-4C92-9CE7-5B1AE294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A7A9-8968-4258-99DA-9D54545D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0A20-A31D-4242-A527-1C41029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767E-F3E4-4B3A-81A7-5F697A6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D02D-4336-4C9D-8DDF-4584D80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5E6B-CB7B-4E0D-ADEE-F550B4C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0926-94EC-4268-B1B5-6A16672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1DA5-427C-4BC5-B970-938227A5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FC5C-EE04-4E22-94C8-2140609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8B16-AC0D-4488-AD99-428C218E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EAB8-24D8-4809-8C75-FE8AC260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762C-5F7C-4BE4-8BBC-73F560D8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63FC-8384-4AC2-90E1-E2C4862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0380-E581-4C34-886C-D6092BB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C414-3D60-401A-93A2-8F867476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B350-88CC-412C-83A1-5E5F68D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BD39-E145-4498-9ECB-D40E099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ED1-3728-42FE-984A-8FC66E3706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593-DF8F-4A00-92A8-B34FEC090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B041-62B1-4C96-A622-560233884C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ck Waves: IV. The Acceleration of CRs in SN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ing in upstream region is induced by turbulence in the form of Alfven waves excited by energetic particles which pass through the shock and attempt to escape up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-non-linear effe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OSSING FROM UPSTREAM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T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69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N cycles partic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e shock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“loses memory” about its initial spectrum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article goes from region 1 to region 2 its energ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-crosses the shoc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19760" cy="74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4217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s:                                   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2057400" cy="1001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6615000" cy="1519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2286000" y="4797360"/>
            <a:ext cx="65293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ain in each cycle is approximately the same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ing over angles 0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for index 1, and from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for index 2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423200" cy="16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2133720" y="5257800"/>
            <a:ext cx="53337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particle completing at lea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s, and therefore of reaching an ener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∞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4916520" cy="1533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5410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59641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ing spectrum of the cosmic ray particles in DSA theory is power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i="1" lang="en-US" sz="5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l-GR" sz="5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5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/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strong non-modified shock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croscopic approach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rymsky 1977, Axford et al. 1977, Blandford &amp; Ostriker 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x,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 distribution function of the phase space dens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 the power-law form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deal gas 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/3), and Mach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)dp 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IED SHOCK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nea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of cosmic ray (CR) pressu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/3 → compression ratio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Rs – particle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shock acceleration – first order Fermi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(1978a,b), Blandford &amp; Ostriker (1978, 1980), Drury (1983a,b), Malkov &amp; Drury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d2"/>
          <p:cNvPicPr/>
          <p:nvPr/>
        </p:nvPicPr>
        <p:blipFill>
          <a:blip r:embed="rId1"/>
          <a:stretch/>
        </p:blipFill>
        <p:spPr>
          <a:xfrm>
            <a:off x="1981080" y="3733920"/>
            <a:ext cx="4419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A - SN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Rs are energetically  capable to accelerate CRs by DSA mechanism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landford &amp; Ostriker 197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Still, the particle injection stays as an open proble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ion  (Bell 1978b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j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1/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057400" y="2598840"/>
            <a:ext cx="6019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1/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7000 k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NRs in energy conserving phase, the  radio (synchrotron) surface brightness (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&lt; 7000 km/s) to diameter re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40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3.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uric &amp; Seaquist 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near kinetic theory for CR acceleration in SNRs (Berezhko &amp;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k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shocks by CR pres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free expansion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, shock is slightly modified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.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      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te free expansion pha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, shock is slightly modified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equiparti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      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4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8483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rly energy conserving (Sedov) ph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 baseline="40000">
                <a:solidFill>
                  <a:srgbClr val="000000"/>
                </a:solidFill>
                <a:latin typeface="Arial"/>
                <a:ea typeface="Arial"/>
              </a:rPr>
              <a:t>-1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hock is signific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ified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4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4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linear theory 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4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3.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te energy conserving (Sedov) ph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ck decelerates, DSA and mag.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plification are irrelev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4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ion (Berezhko &amp;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k 2004 – B&amp;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981080" y="2166840"/>
            <a:ext cx="57150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Rs – particle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rder Fermi acceleration – turbulences in downstream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&amp; Chevalier (1975), Galinsky &amp; Shevchenko (200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19320" y="3594240"/>
            <a:ext cx="69339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82880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lov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ć et al.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near DSA + resonant magnetic field ampl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R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R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0" lang="sr-Latn-RS" sz="3600" spc="-1" strike="noStrike">
                <a:solidFill>
                  <a:srgbClr val="000000"/>
                </a:solidFill>
                <a:latin typeface="Arial"/>
                <a:ea typeface="Arial"/>
              </a:rPr>
              <a:t>(earlier st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R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R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RS" sz="36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sr-Latn-RS" sz="3600" spc="-1" strike="noStrike">
                <a:solidFill>
                  <a:srgbClr val="000000"/>
                </a:solidFill>
                <a:latin typeface="Arial"/>
                <a:ea typeface="Arial"/>
              </a:rPr>
              <a:t>(later st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lov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ć et al.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1981080" y="1471680"/>
            <a:ext cx="50040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lov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ć et al.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371520" y="1523880"/>
            <a:ext cx="82011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lov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ć et al. (20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705200" y="1371600"/>
            <a:ext cx="4438800" cy="5415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52280" y="1298520"/>
            <a:ext cx="448164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ll’s and B&amp;V models are not in contradiction (in order of used injection mode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fferent results for energy conserving phase are relics of different models and using of different assump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ell’s model has physically better foundation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volution of an SNR in radio – excluding phases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earching for different injections model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A – diffusion only in pinch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rder acceleration – diffusion in veloc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↓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of both processes in the same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ffffcc"/>
                </a:solidFill>
                <a:latin typeface="Tahoma"/>
              </a:rPr>
              <a:t>THANKS!!! </a:t>
            </a:r>
            <a:endParaRPr b="0" lang="en-US" sz="9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SA – diffuse shock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735960" cy="4424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icroscopic approach (Be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197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SA – diffuse shock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dsa"/>
          <p:cNvPicPr/>
          <p:nvPr/>
        </p:nvPicPr>
        <p:blipFill>
          <a:blip r:embed="rId1"/>
          <a:stretch/>
        </p:blipFill>
        <p:spPr>
          <a:xfrm>
            <a:off x="990720" y="1143000"/>
            <a:ext cx="75438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SA – diffuse shock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– advect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6683400" cy="89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286000" y="4595760"/>
            <a:ext cx="25891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ime chang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zero outside the shock in downstream reg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4187880" cy="91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4637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 of the test particle downstream, far from the shock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q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low of particles that escape from the shock at large downstream dista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an isotropic diffusion, from the classical kinetic theory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cos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umber of particles that are diffused backwards per unit t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cape downstre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3886200" cy="5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160020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172200" y="5486400"/>
            <a:ext cx="2514600" cy="64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91120" y="5943600"/>
            <a:ext cx="19810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ability of escape at a large distance down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est particle velocity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E RECROSSING FROM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TREM TO UP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ttering induced by magnetic turbulence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tream reg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20:42:22Z</dcterms:created>
  <dc:creator>Astro</dc:creator>
  <dc:description/>
  <dc:language>en-US</dc:language>
  <cp:lastModifiedBy>Dejan Urosevic</cp:lastModifiedBy>
  <dcterms:modified xsi:type="dcterms:W3CDTF">2018-12-17T17:40:08Z</dcterms:modified>
  <cp:revision>112</cp:revision>
  <dc:subject/>
  <dc:title>No Slide Title</dc:title>
</cp:coreProperties>
</file>