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8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25.png" ContentType="image/png"/>
  <Override PartName="/ppt/media/image35.wmf" ContentType="image/x-wmf"/>
  <Override PartName="/ppt/media/image15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7.png" ContentType="image/png"/>
  <Override PartName="/ppt/media/image27.png" ContentType="image/png"/>
  <Override PartName="/ppt/media/image30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24B-11EC-400E-8EA9-E565296C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657-FDED-44A2-92A1-71CC925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F41-9239-4EC0-BFBA-92ABE43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496-86E7-4AEA-851F-4A1B89C8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E33F-CAA9-4D19-91D0-13FB8906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2D3-8EB7-4DCA-81AB-23D5837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BC86-ED1D-41EC-B03B-C8DBFC1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BB62-2153-49E2-8546-3FEE5B3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3E8-094D-416F-A777-EB8A440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E54F-F1A6-4C42-965C-97A44A3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EB24-088B-436A-8FF3-E371E5D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863-3D93-4F4B-9805-678A17C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51CC-3B67-4BCC-AD5D-3B998DF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DFED-229A-491E-8196-1F8FA959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4DC-ACB6-4B1A-B049-5DEAF97B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B06-74F8-40DA-AF7F-BC480D75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4E0A-6888-425F-9E11-0FC8CC25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7A9-18CF-4804-9ED6-2B883AD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748-A3EB-430F-A4F0-25C7FCD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EEE-492A-487D-9FFA-DA43CE1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397-0FB2-42E0-BFCB-174EA794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D88-1393-49EC-A2B1-FAAC9A3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E86-FDAA-4D85-99AB-3AA6156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C24-7AAF-4B89-8046-76A1CDA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3BE9-F2AC-4ED8-B29C-18ECAEABE3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D7EE-CE1C-437B-802B-78CA2FC9AD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Ionized IS Gas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of Stromgren sp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eyond which there are no ionization phot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this radius being absorbed by the neutral atoms resulting from re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ionizations per second and per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H is almost totally ionized in the HII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41673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combination to the fundamental level yields a photon which will ionize the next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recombinations must not be account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combinations to higher levels (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2) need be considered, and recomb. coeff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st be replaced b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8360" y="4952880"/>
            <a:ext cx="8945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of volume def.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recombinations  = the number of io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) is the ionizing flux emitted by the star over 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→ 0 at the surface of the Stromgren sphe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2227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ionizing power of the star and is often tabu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3754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Fluxes of ionizing photons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330066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330066"/>
                </a:solidFill>
                <a:latin typeface="Arial"/>
              </a:rPr>
              <a:t>LyC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(HI) and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33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330066"/>
                </a:solidFill>
                <a:latin typeface="Arial"/>
              </a:rPr>
              <a:t>LyC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(HeI) in H and He Lyman continua for various types of hot stars with solar abundances (Schaerer and de Koter 1997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17720" y="1719360"/>
            <a:ext cx="71085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s with energy slightly higher (because of dependenc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13.6 eV are mostly absorbed by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er energy can be absorbed by He, N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s with energy higher than 24.6 eV produce HeII region (inside HII reg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I region = HeII reg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.1 (stars hotter than O8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37 000 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II (54.4 eV) is only visible around the very hottest stars (W-R st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I regions = HII regions (ionization potential of 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3.6 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II (35.1 eV) is only found in the central regions near very hot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istic description (isolated, spherical HII regions with a true ionization stru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ed medium is generally heteroge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I regions are connected to molecular clouds – they have to expand because their pressures are higher approx. 1000 times (because the temperatures are 500 times and density 2 times higher due to ionization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-bounded – a part ionizing photons may escape from the HII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ization-bounded – an ideal HII region in a uniform medium where all Lyman photons are used to ionize the med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ntinuous Emission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Free-Free Emission (Thermal Bremsstrahlung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72960" y="2514600"/>
            <a:ext cx="877104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419720" y="3193920"/>
            <a:ext cx="1874880" cy="681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297480" y="3200400"/>
            <a:ext cx="284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I regions (planetary nebula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use ionized 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t 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ree-Bound Radiati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combination of free electrons with ions produces continuum rad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combination to the different energy levels of H gives rise to discontinuities in the spectr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lmer discontinuity corresponds to recombination  to lev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2, the Paschen discontinuity to level n = 3, etc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Variation with frequency of the continuous emission coefficient (</a:t>
            </a:r>
            <a:r>
              <a:rPr b="1" i="1" lang="el-GR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γ</a:t>
            </a:r>
            <a:r>
              <a:rPr b="1" i="1" lang="el-GR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ν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=</a:t>
            </a:r>
            <a:r>
              <a:rPr b="1" i="1" lang="el-GR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ε</a:t>
            </a:r>
            <a:r>
              <a:rPr b="1" i="1" lang="el-GR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ν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/(</a:t>
            </a:r>
            <a:r>
              <a:rPr b="1" i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of HI, HeI and HeII (Brown and Mathews 1970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27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wo-Photon Radiati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ve de-excitation through the intermediate of a virtual non-quantifie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hotons are emitted – sum of their energy being equal to the energy of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for this emission is small, but it can become the main channel for de-excitation of a metastable level if collisions are neg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has some states for which direct radiative transitions are forbidden =&gt; corresponding de-excitation is by two-photon emission (it will be done always after recombinatio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, HI can recombine to the metastable level which can only de-excite radiatively by two photon e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rresponding continuum rises towards the U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continuum is more intense than the free-free and free-bound continua near 400 n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The total continuous spectrum (free-free + free-bound) for H plasma at 7000 K, normalized at 5 GHz. The dashed line is free-free contribution. The doted line represents so-called Oster (1961) approx. The low energy limit is represented by dashed – 3 x dotted line (Menzel and Pekeris 1935). Two-photon radiation is negligible except in UV (Beckert 2000).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3244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cattered Stellar Light and Thermal Emission of Dus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stellar light in HII regions by dust – diffuse brightness in the visible and especially in U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grains absorb some Lyman continuum emission that fills HII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-emitted previously absorbed energy in mid and far IR, producing a black-body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Recombination Li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ted lines of H, He, O, C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ation from the fundamental level by collisions is negligible (except for 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udy here only H recombin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77280" cy="470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7724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[OIII] blue, H</a:t>
            </a:r>
            <a:r>
              <a:rPr b="1" lang="el-GR" sz="20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green, [NII] red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61084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124000" y="1447920"/>
            <a:ext cx="5343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1" lang="el-GR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α</a:t>
            </a:r>
            <a:r>
              <a:rPr b="1" lang="en-US" sz="2400" spc="-1" strike="noStrike" baseline="-25000">
                <a:solidFill>
                  <a:srgbClr val="33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imag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03640" cy="5138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49528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II region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ed sphere surrounding a hot star or a cluster of hot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rst approx. this sphere is in stationar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ionization of H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 of HII reg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ptical and radio recombin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ne structure forbidden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bula is optically thick in the Lyman lines =&gt; every recombination of H follows a Balmer line or continuum ph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observations of Balmer lines or Balmer continuum we can obtain number of recombinations (ionizations) – Zanstr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an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otons propagate by random walk (resonant scattering) until they escape from the nebula or are absorbed by dust inside the HII reg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very recombination of H in an HII region produces a Balmer phot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of recombin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optically 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itted intensity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d emission is neg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frequencies for H ato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ydberg const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cipal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1904760" cy="389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312444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solve system of equation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es of radiative transitions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rom l to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e of radiative transition from u to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zation rate from som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combination rate to the sam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corporate in Saha law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58975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his system of equations is very complex and that can be simplified in two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ar does not emit in the Lyman lines (t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true for “normal” hot stars), and nebula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ptically thin in these lines – there are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bsorption from le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ar does not emit in the Lyman lines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bula is optically thick in these lines – t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generally the case in gaseous nebula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ionization from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 are gene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ed because these levels are m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populated than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visual extinction (by dust in direction of HII regions) from the intensity ratios between recombination lines (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E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or ex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819160" cy="627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3059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extinction from 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free-free radio continuum ratio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obtained in this way is generally larger than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selection effec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H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ginate from transparent regions, but for radio waves the environment is transparent if it is not the case for Balmer lines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902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 temperature can be determined  from the ratio of nebular continuum discontinuity at 364.4 nm (the Balmer jump) to the intensity of high Balm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ratio between He and H recombination lines allows to obtain the abundance of H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Radio Recombination Lines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al transitions dominate over radiative transitions – contrary to the situation with optical recombination lin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E as a first approximation =&gt; the brightness temperature in the line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0" y="5105520"/>
            <a:ext cx="50626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re always superimposed on the radio continuum of HII reg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electron temperatu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70866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ory of photoionization: the Stromgren Spher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zation equilibr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bability of recombination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robability of i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ross-section of an electron to lev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 free electrons – assumed maxwellian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71800" cy="92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302868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eviation of LTE leads to large effects in intensity of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true electron temperatu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determined assuming L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H66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Orion nebul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7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 good agreement with those obtained from the forbidden lines in the vi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90920" y="3809880"/>
            <a:ext cx="33526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dial velocities of the HII regions can be obtained from the measurements of the frequencies of recombination lines, even if it is invisible optically – radio waves are not absorbed in I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undances of elements can be determined from radio recombination lines - from ratios of intensities of H to He, C, S lines. The results are less accurate than when using optical recombination line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531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is photoionization cross-section from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y photons at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density of phot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h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radiation energy dens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n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onization equilibrium eq. for two ionic st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795560" cy="1013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40258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ve cascades from leve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undamental level are very fast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al excitation from fundamental to lev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generally negligible in ISM =&gt; ionizations are only from the fundament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19520" y="4876920"/>
            <a:ext cx="32176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H ga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with hydrogen density of atom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nd degree of ionization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895480" cy="167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76720" y="5457960"/>
            <a:ext cx="2330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ider a hydrogen cloud with uniform density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ing and ionized star at th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coefficient of H in the Lyman continuu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4846680" cy="461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254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cal depth in the Lyman continuum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rom the star (neglecting absorption by du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 only 0.05 p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sorption is very abrupt if H is not totally ionized or if the density is not extremely sm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56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2:06:47Z</dcterms:created>
  <dc:creator>Astronomija</dc:creator>
  <dc:description/>
  <dc:language>en-US</dc:language>
  <cp:lastModifiedBy>Administrator</cp:lastModifiedBy>
  <dcterms:modified xsi:type="dcterms:W3CDTF">2013-11-15T17:32:10Z</dcterms:modified>
  <cp:revision>48</cp:revision>
  <dc:subject/>
  <dc:title>Slide 1</dc:title>
</cp:coreProperties>
</file>