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7E16-F295-4669-9DAE-48DDC6AA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F9C8-35FD-4B39-BB16-BE4684E3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3A9E-3A1B-4FDA-BCCB-D3E9B1A8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AC41-8736-4918-8921-F4437A1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C00F-17B4-4973-934A-82D2F0F7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4F3-B728-463F-A679-CFB5F386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AB36-22C9-4270-8C49-A9FD4867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4D46-E925-494D-BE4B-E833CD10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7881-8E34-4B58-AB3D-546E8495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E08B-537B-4974-B09D-DA823C00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36C0-A9D2-4606-98C9-B62861E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0B09-DC5E-4885-8601-E0F0659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70A3-E0DB-4231-9EC3-6E83BC7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859C-CFA2-4539-A7CE-FCDD6C9A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FF6-6A85-41D5-88D7-D6FF4686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E5A1-4E68-4465-B15E-D38AA0FD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9F9C-0B8F-4D43-9661-178A7D71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1E01-146D-48CC-AFDA-CE241CFD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0B74-52D4-40E1-B0CB-7356CAD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1EBB-F159-4AD2-91E5-501AFB98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1F79-BD3E-4AE1-8736-D3F3C423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688D-4DBE-44B3-81AF-ADC8DE90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5AFD-5E3B-4B6A-AE2C-ACB8A55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85B8-98EA-46C5-BEE1-EB19805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3B5E-E611-4AA2-94AD-7D99FA2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F925-792E-48B0-8537-8A561CF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7DE0-D871-48DF-8298-258E836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CCCB-B69B-45BF-AB76-9B80FFC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06BB-5D1E-47C4-BD7F-3A3B47D7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0B77-0B6B-4A19-9D1E-4CA54D64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21B9-3E60-4FBA-9F48-4698A7FB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6547-BE00-4D8D-88D6-470DAB86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8ABA-70C4-4DA7-B63E-B22FBF60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394E-1858-4681-9EC3-B7A0E069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1D48-89F1-46E0-B600-24341EFD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A07D-5E1A-4FAF-8696-7F48DA1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7893-CA05-43C5-AC18-B10DFFA7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0CB9-2C50-4C99-BB0A-E1FBB22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E90D-8802-4D50-B020-C736F89E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1E77-B25A-4D74-B2A7-0FCBF8A3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3BFA-7B2D-4C37-BDB4-6BCD9B19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6666-ECB4-42CF-AC1A-2894523C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32C1-1B11-4FB5-976D-B6C1E14D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6CDC-E0DE-4789-B034-9D38C070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70FA-9972-42C6-8049-66C6B93A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034F-C013-4539-8FF7-B537BB9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C0BB-F16B-47D4-845F-B8E8BF1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095A-52B1-4E2E-9193-7367763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A2FA-B46F-436A-8ED0-94DF33999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DD55-B9DE-4F65-9580-546DCD1D6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3117-3AE2-4E6B-921E-308B36B698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3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1B2-185E-4581-BDCF-1DFB290373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86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adiations and Magnetic Field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ISM thermally emits soft X-rays (&lt; 1 Ke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galactic X-ray background (&gt; 1 K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xtragalactic radiation is negligible in its influence on 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KeV photons are absorbed by 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bubble, Galactic halo emit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X-rays heat diffuse IS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Interstellar Magnetic Fie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vitational attraction of the disk balanced by magnetic pressure + CR pressure + kinetic non-thermal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mal pressure is negligible (except pressure of the hot gas – but only tiny portio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scopic kinetic pressure, related to large scale motion of IS clouds: &lt;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=1/3&lt;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,     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0)=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of CR: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0)=1/3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ic pressu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0)=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8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y are all of the same order of magnitu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olution of the hydrostatic equilibrium equation can be shown in form: 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1+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371600" y="3287880"/>
            <a:ext cx="655308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scale mag. fields: major role in starting of gravitational instabilities and molecular cloud collapse -&gt; formation of sta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agnetic Field Measurements Using the Zeeman Effec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on of total angular moment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=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(atom posses non-zero magnetic moment), with the magnetic fi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displacement of a Zeeman componen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Bohr magneton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nde factor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bleve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54864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H a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ppler widths (KHz) are higher than displacem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4Hz/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thod gives positive results only for dense HI clouds (10 – 3000 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), circular polarization, onl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he-IL" sz="2600" spc="-1" strike="noStrike" baseline="-25000">
                <a:solidFill>
                  <a:srgbClr val="000000"/>
                </a:solidFill>
                <a:latin typeface="Arial"/>
                <a:cs typeface="Arial"/>
              </a:rPr>
              <a:t>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neral magnetic field, a few 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, is too faint to be measured in this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4625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asurements of the Magnetic Fields Using Faraday Rotatio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315280" cy="93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523880" y="3886200"/>
            <a:ext cx="6608880" cy="998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276720" y="5638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RM/D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stimate of the Magnetic Field from the Galactic Synchrotron Radiatio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expression for synchrotron inten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object extension)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measure near Sun), energy index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2993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method – equipartition calc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ulation of the magnetic field for minimal energy necessary for synchrotron emission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 Fields in 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s from ISM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galactic radiation from other galax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 from Universe as a whole (blackbody 2.726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stimate of the Direction of the Magnetic Fields from the Polarization of Ligh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ar polarization of the light transmitted by the medium is parallel to the magnetic field, from observ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ly linear polarization of far-IR radiation of IS dust has been detected =&gt; direction of the magnetic fiel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density 1 eV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istence of ordered magnetic fiel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tion along spiral a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chrotron radiation from haloes of galaxies (SNRs – chimney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the magnetic field intensity is smaller than it is predicted from Alphen theorem B ~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.4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pected for spherical contraction and from magnetic conservation, B ~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.6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2004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some confusion about the direction of magnetic fields at the cloud sca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al observations are not so precise, but by adding of radio and IR observations the general form should be determined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galactic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B, energy density 0.26 eV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M is transparent at submm and mm wavel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 from other galaxies, energy density 0.017 eV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in mid and far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ctral energy distribution of the extragalactic background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14400" y="1782720"/>
            <a:ext cx="76201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lactic radiation: Observations of Galac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al energy distribution of the sky brightness outside the lower terrestrial atmosphere at high galactic and ecliptic latitu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62481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V, Visible and Near-IR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M energy density of radiation near Sun = 1 eV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Habing’s field (1968) in range UV 91.2 – 206.6 nm (6 - 13.6 eV)  = 0.034 eV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ine’s field (1978) in range UV 91.2 – 113 nm = 0.0097 eV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this range we have ionization of elements other than H, He, N, O and noble g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ine’s field is two time higher than Habing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man discontinuity of H at 91.2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 field is truncated below this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I regions are transparent for shorter UV waveleng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tellar extinction as a function of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066680" y="2405160"/>
            <a:ext cx="65534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- and Far-IR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M is relatively transparent at these wave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photons have little effect on 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molecular clouds – substantial opacity even in the far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4:57:52Z</dcterms:created>
  <dc:creator>Astronomija</dc:creator>
  <dc:description/>
  <dc:language>en-US</dc:language>
  <cp:lastModifiedBy>Astronomija</cp:lastModifiedBy>
  <dcterms:modified xsi:type="dcterms:W3CDTF">2011-10-24T14:42:27Z</dcterms:modified>
  <cp:revision>17</cp:revision>
  <dc:subject/>
  <dc:title>Radiations and Magnetic Fields</dc:title>
</cp:coreProperties>
</file>