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FC1-B275-430D-8EFE-F850CDA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97F-6F13-45C6-9C23-0EE4485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27B-86E0-4430-882A-B016403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BD6-061E-4283-A4D4-C95338C9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83D-4507-4437-94F8-6900FCFD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CE1-AD59-475C-B06E-C0AB344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007-E81E-440E-8FD4-FFF73D1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17B7-E6EC-49E1-BA0B-0CA9D850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45D-DD7D-423D-A8D8-46365F4F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E36-BE49-43F0-8340-F0539DB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D0B7-AAF4-4DD6-A7C9-A683DD4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71F-C4F0-49AD-9EC2-1497C25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56A-D23E-4DED-96E2-15FE78E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3CDE-7CCD-434C-B2D5-1463E5A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F5D1-03BA-472A-9C33-6571D2A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D08-A7B8-4492-B3BD-3045BA1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F5C-58BB-4C70-AC51-F4DC2B89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FFA6-CBFE-4756-8502-B1E80548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9C91-FE01-4EA8-B5C4-F98BCB0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E270-0FDE-4AE7-A81E-21BD639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0E80-65B9-4D10-BAEC-0EBBA22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F479-BA14-4067-A8DF-4DA44FF3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9EF-1E67-4B0B-BBC3-1AF428B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D378-C15F-433A-BE15-DB1943B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C914-6915-41B2-890A-B7BFC3E9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3AF2-2EBC-438A-86DC-CBD6B01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2477-ED65-4B99-ADA4-1DC55EA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B98B-DAF2-4981-A516-CE4596E0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A8D9-E061-4751-9087-2834C1C1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223C-A8F0-45C9-B2D8-FD900EA2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6D7D-F80F-4AB8-BA6E-B69331DE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0406-4F67-4228-BB84-36C9A48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2D57-C519-4F9F-B035-F126582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EE7-7498-4F0C-89A3-DC586E5D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1BA2-83F4-4B35-886F-D9B1EAD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2E96-F93D-4B64-81CD-09AB5301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5543-DD73-436D-83A8-B68399E4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BA52-3A9D-46C6-A788-1539736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1074-8806-4D46-B0AF-7C33D1F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E9DE-18DD-4178-A4AB-C5D5F5E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4C18-773B-4265-9E45-A2CB9E6E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C16B-CBBB-4E96-B5EA-6EF70896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EBF6-12DB-478B-8D27-18879A5C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D0FA-E916-4A72-93B5-20D9C52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8E8-9C6B-4755-AE08-794F4B27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5E9F-9120-4B6C-803F-592EDB74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1B06-B502-419C-8EDC-7174237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6E85-2E8B-48A9-94FF-69FDBA11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D4D7-280E-4BFE-A46D-34F8ECA8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2B3E-CD36-48EC-B536-7F813B3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A207-643C-4343-B5C3-C564100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8F20-B9E8-4280-829B-DECAC07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3695-4589-4399-B9E6-A4BD8C9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E684-1537-4EC0-8833-73F2049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5451-726F-4A63-BAC9-1B473234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F3-DEFC-43AA-8C3C-9BFC9F8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AE90-0E21-4EFC-B30F-AA355E94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65C7-D250-47D8-BAA5-F19D8C95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6397-61D1-42A7-878B-3CEE84D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F826-89F8-4D6A-97C1-75DC89E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C77B-68B4-4A57-B7F5-872F0E48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70D3F-F501-4C7B-B06C-77B7453E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14F8-2D90-4E7F-8AD6-F9D485E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DD02-A0BB-497D-AD86-28E78FC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71815-54A7-4580-98D2-CD64E03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68D3-12D4-4FB9-A046-7DCFD3D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82F-BBFB-447D-8F10-6F00DE9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2D00D-12E6-46FF-8399-873BF72C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2479-A50C-4073-9568-A1D2B44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4E87-53F5-467A-9FF6-55662EB3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0376-7A14-49E5-8788-F6084A6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410B-ABF8-4B1B-8FCD-740A4EB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0E4B-0792-4115-AAC1-521B4017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5A91-5BE1-4269-A0F5-3B3AE98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E937-3333-4FFE-978E-609F0B98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DBA4-ED24-4106-9CA9-2AA89CC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6CF0-6E31-4C99-B9CD-441CF2E1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12D-455E-41C2-B5B6-77106AA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08F4-85C1-4FCD-BE08-BB11172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5F58-69DA-4260-8DBA-98400A18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E889-904F-4514-8F00-7353A09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A70D-C1F0-4878-88F0-747AC28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FC31-467C-41FB-8DD2-BAF90C5E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28C-3464-47B0-885A-6DA8E2B6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923C-BF99-4446-A05E-969791068E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6952-833C-47A5-8FEE-766CE2B49A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E77-A838-48CA-90A3-E5781F28E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31C-38B7-4E5F-87AC-03D0C1D444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6182-9721-4575-8BA9-6F07E4DD88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4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3A6-EC8C-46F3-8BA0-EB9EF6C265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F44-E529-4748-B8FB-EAA997DD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04920" y="-331920"/>
            <a:ext cx="9677520" cy="7189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973240" y="3350520"/>
            <a:ext cx="310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05720" y="1217880"/>
            <a:ext cx="657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Interstellar Mediu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397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Galaxy: Orders of Magn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 ~ 20 k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ckness ~ few hundreds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~ 7-8 k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180 - 200 k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n revol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240 million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coll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less;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 the age of the Galax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radiation energy 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side radius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051000" cy="397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5997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Su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radius of 20 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rot. velocities until 30 kpc – mass extends even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mass of the Gala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radius of 20 kp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047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mass of the Galaxy =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16240" y="2588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↓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04920" y="2014560"/>
            <a:ext cx="83055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5%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 stel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 0.5%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compos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H, 28% He, 2% C, N, O, Mg, Si, S, 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agnetic radiation: total energy density 1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+ 0.26 e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B radiation) dominant UV, visible, mid and far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gnetic field: 5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nergy density 1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smic rays: high energy particle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nergy density 1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motion of the ISM is similar: ar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eV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M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 (cold, warm, ho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4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5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0 – 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% of the Galactic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llar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: same age, abundance, 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: young stars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lt; 30 km/s (6-7 km/s for the youngest st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time:                                          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the most massive stars (~1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time is ~ 3 mil. 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7764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I: old stars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&gt; 100 km/s, variable small metallicity, halo objects, spherical symme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disk popul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: ISM -&gt; stars -&gt; 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so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↓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hydrostatic equilibrium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133720" y="2911320"/>
            <a:ext cx="4952880" cy="1054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66722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in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IPPARCOS data (A st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ompared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.0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– dark matter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270240" cy="1257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191120"/>
            <a:ext cx="51022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PARCOS data from Local bubble (within 100 pc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nsity LISM! =&gt; existence of dar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ssian height sca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good approximation for the thinnest syst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&lt; h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youngest to oldest disc st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59436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Bulge and the Ha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interesting since we are concerned with 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eroidal component largely dominated by dark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ion of 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asuring of the stellar distan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metrical parallax, spectral parallax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II regions: distance to associated st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rk clouds: distances to unabsorbed st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nematic d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96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15120" y="839160"/>
            <a:ext cx="624672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use 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bula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r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al velocities from emissions or absorption 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Oort parameter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6132600" cy="877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5008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11-15 km/(s k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67658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econd Oort parame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-(12-14) km/(s kpc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6483240" cy="9334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590920" y="4343400"/>
            <a:ext cx="3840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ertainty ~ 0.5 kpc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only one method for mapping of the distribution of HI from 21 cm line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I regions and molecular clouds are associated with young stars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iral structure of the Galaxy from distribution of HII regions (Russeil 2003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600200" y="1847880"/>
            <a:ext cx="58849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dial distribution of the atomic and molecular components of ISM in the Galaxy (Binney &amp; Merrifield 1998)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553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15480" y="915120"/>
            <a:ext cx="624600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bula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rk nebul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ght nebul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39160" y="839160"/>
            <a:ext cx="624672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ght nebula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lection nebul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ission nebul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15480" y="915120"/>
            <a:ext cx="624600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ssion nebula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I reg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etary nebulae (P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nova remnants (SN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9160" y="839160"/>
            <a:ext cx="624672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elds in 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ation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netic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9160" y="839160"/>
            <a:ext cx="624672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energy particles in 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Galaxy, Host of the Interstellar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0:22:25Z</dcterms:created>
  <dc:creator>Astronomija</dc:creator>
  <dc:description/>
  <dc:language>en-US</dc:language>
  <cp:lastModifiedBy>Astronomija</cp:lastModifiedBy>
  <dcterms:modified xsi:type="dcterms:W3CDTF">2010-10-18T13:15:59Z</dcterms:modified>
  <cp:revision>16</cp:revision>
  <dc:subject/>
  <dc:title>    The Interstellar Medium  </dc:title>
</cp:coreProperties>
</file>