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16.wmf" ContentType="image/x-wmf"/>
  <Override PartName="/ppt/media/image4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png" ContentType="image/png"/>
  <Override PartName="/ppt/media/image43.png" ContentType="image/png"/>
  <Override PartName="/ppt/media/image42.wmf" ContentType="image/x-wmf"/>
  <Override PartName="/ppt/media/image8.png" ContentType="image/png"/>
  <Override PartName="/ppt/media/image40.wmf" ContentType="image/x-wmf"/>
  <Override PartName="/ppt/media/image6.png" ContentType="image/png"/>
  <Override PartName="/ppt/media/image26.wmf" ContentType="image/x-wmf"/>
  <Override PartName="/ppt/media/image32.wmf" ContentType="image/x-wmf"/>
  <Override PartName="/ppt/media/image69.wmf" ContentType="image/x-wmf"/>
  <Override PartName="/ppt/media/image18.wmf" ContentType="image/x-wmf"/>
  <Override PartName="/ppt/media/image17.png" ContentType="image/png"/>
  <Override PartName="/ppt/media/image20.wmf" ContentType="image/x-wmf"/>
  <Override PartName="/ppt/media/image63.png" ContentType="image/png"/>
  <Override PartName="/ppt/media/image58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4.wmf" ContentType="image/x-wmf"/>
  <Override PartName="/ppt/media/image67.png" ContentType="image/png"/>
  <Override PartName="/ppt/media/image70.wmf" ContentType="image/x-wmf"/>
  <Override PartName="/ppt/media/image28.wmf" ContentType="image/x-wmf"/>
  <Override PartName="/ppt/media/image1.png" ContentType="image/png"/>
  <Override PartName="/ppt/media/image71.wmf" ContentType="image/x-wmf"/>
  <Override PartName="/ppt/media/image29.wmf" ContentType="image/x-wmf"/>
  <Override PartName="/ppt/media/image61.wmf" ContentType="image/x-wmf"/>
  <Override PartName="/ppt/media/image77.wmf" ContentType="image/x-wmf"/>
  <Override PartName="/ppt/media/image65.wmf" ContentType="image/x-wmf"/>
  <Override PartName="/ppt/media/image75.wmf" ContentType="image/x-wmf"/>
  <Override PartName="/ppt/media/image74.wmf" ContentType="image/x-wmf"/>
  <Override PartName="/ppt/media/image25.wmf" ContentType="image/x-wmf"/>
  <Override PartName="/ppt/media/image62.wmf" ContentType="image/x-wmf"/>
  <Override PartName="/ppt/media/image73.wmf" ContentType="image/x-wmf"/>
  <Override PartName="/ppt/media/image72.wmf" ContentType="image/x-wmf"/>
  <Override PartName="/ppt/media/image68.wmf" ContentType="image/x-wmf"/>
  <Override PartName="/ppt/media/image31.wmf" ContentType="image/x-wmf"/>
  <Override PartName="/ppt/media/image66.wmf" ContentType="image/x-wmf"/>
  <Override PartName="/ppt/media/image64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76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27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image2.wmf" ContentType="image/x-wmf"/>
  <Override PartName="/ppt/media/image57.png" ContentType="image/png"/>
  <Override PartName="/ppt/media/image14.wmf" ContentType="image/x-wmf"/>
  <Override PartName="/ppt/media/image10.wmf" ContentType="image/x-wmf"/>
  <Override PartName="/ppt/media/image47.wmf" ContentType="image/x-wmf"/>
  <Override PartName="/ppt/media/image60.wmf" ContentType="image/x-wmf"/>
  <Override PartName="/ppt/media/image38.png" ContentType="image/png"/>
  <Override PartName="/ppt/media/image12.wmf" ContentType="image/x-wmf"/>
  <Override PartName="/ppt/media/image49.wmf" ContentType="image/x-wmf"/>
  <Override PartName="/ppt/media/image9.wmf" ContentType="image/x-wmf"/>
  <Override PartName="/ppt/media/image39.wmf" ContentType="image/x-wmf"/>
  <Override PartName="/ppt/media/image41.png" ContentType="image/png"/>
  <Override PartName="/ppt/media/image11.wmf" ContentType="image/x-wmf"/>
  <Override PartName="/ppt/media/image48.wmf" ContentType="image/x-wmf"/>
  <Override PartName="/ppt/media/image13.wmf" ContentType="image/x-wmf"/>
  <Override PartName="/ppt/media/image30.wmf" ContentType="image/x-wmf"/>
  <Override PartName="/ppt/media/image36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F22-3DEC-4EDF-8E06-7E02DF61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77F-A697-4EC8-B67F-E0F1C89D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7A7-FADF-4676-8A05-C2190E1A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1EE-813B-45F8-887B-64C90EAD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0374-7023-481A-9365-CB5AD2C6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7F21-4247-4CF3-95CE-AE9AD07B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46D8-886D-433A-9379-523BC639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25FB-AC7E-4B81-8A0B-70EC1053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9DAC-8608-4C47-8453-F0E5284A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322E-D962-49E2-AE1B-14861CC0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445D-4EC0-4D37-99BE-6F7E0C61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121-C005-46D9-9471-4EDB2903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2E62-8AF6-470A-83B1-6117BF48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8A4C-294B-48DE-9ECD-4116F605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630A-4484-4522-90FD-9C62B3E9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8E2B-444B-47B8-BC5A-9E178B2C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C055-7B86-4B9E-B693-2D2B1CDF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E14-4644-4637-B121-DC06E809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1BC-1B9D-430A-835E-39EDFB30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687-F0A3-4704-A485-C3C201E5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531-3FE1-41DE-B8CC-8EA9A724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AD9-1DBF-4A05-BB21-32D3144E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A75-17DA-4D30-B1FC-E7903781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F99-7D7D-4B6C-BBEE-A4E9BD69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D2AD-7EB7-4F70-A4EC-7FC1F504B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56AD-5133-4AEE-9ECB-23911102E7C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iative Transfer and Exci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itation temper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↓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3762360" cy="997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767556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yleigh-Jeans approxi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thickness in R-J approx. + radial velocity notation using                                           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l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column density of atoms in leve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4189320" cy="1027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1600200" y="4572000"/>
            <a:ext cx="3429000" cy="82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3048120" y="4114800"/>
            <a:ext cx="399708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sense of excitation temperature only in L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ative excitation temperatures correspond to a inversion population – mas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wo-Level System out of L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ward transitions = downward transitions (statistical equilibrium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L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7022880" cy="103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2819520" y="5181480"/>
            <a:ext cx="294480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kinetic temper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2529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LTE case for two-level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&lt;&lt;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k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 quantity with no physical mean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6176880" cy="843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267080" y="3886200"/>
            <a:ext cx="2895840" cy="1076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2438280" y="5029200"/>
            <a:ext cx="15242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collisions dominate =&gt;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large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e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ollisional or LT equilibriu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collisions are negligible =&gt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small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e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adiative equilibriu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isional de-excitation probabili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article velocity, </a:t>
            </a:r>
            <a:r>
              <a:rPr b="0" i="1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σ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is the cross section for collisional de-excitation, &lt;&gt; means average value ove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2895480" y="4191120"/>
            <a:ext cx="244656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ical density for which collisional and radia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s have the same importan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&lt;&lt;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k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209680" y="3478320"/>
            <a:ext cx="4419720" cy="1131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4114800" y="4800600"/>
            <a:ext cx="433404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ure Radiative Equilibriu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e radiation transitions - CN and CH molecules for HI density &lt; 1000 atoms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generally the case in diffuse IS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e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2.8 K (in front of bright sta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B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2.726 K (after detection of CN radi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 of CN line in absorption allowed a pre-discovery of the blackbody radiation of the Univers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N rotational line at 2.64 mm is not seen superimposed on the CMB neither in emission  nor in absorption -&gt; radiative equilibrium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oupling of Excitation and Transfer; the LVG Approxim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ve equation of statistical equilibrium + equation of transfer at all points of the medium =&gt; populations of the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al solution in two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: optically thick mediu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this approximation is not useful for lin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: large velocity gradient (LVC) approx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Transfer Equ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Probability of radiative excitation (2 level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l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Einstein’s absorption coefficient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l-GR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energy dens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l-GR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= 4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i="1" lang="el-GR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/c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for isotropic radiation – case of LIS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- Probabil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radiative de-exci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u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Einstein’s spontaneous emission probability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u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Einstein’s stimulated emission co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6934320" y="1828800"/>
            <a:ext cx="1828800" cy="747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3124080" y="4724280"/>
            <a:ext cx="27432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VG approx: velocity gradient, density, kinetic and excitation temperatures are uniform in th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. of statistical equilibriu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&lt;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&gt; is local radiation density at position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8539200" cy="9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other si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)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radiation field, propagation of radiation)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) is the source fun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455796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re is large velocity gradient =&gt; photons involved in the line at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 from nearby region defined by distanc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s the local width of line, 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s the total velocity range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s the total depth of the medium along the 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00400" y="3581280"/>
            <a:ext cx="2527200" cy="6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bsorbed photon is re-emitted (scattered) without any memory of incoming photon =&gt; line has same profile in emission and absorption =&gt;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pprox. uniform in a volume of radiu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ound current point =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is the escape probability of a line photon at point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048120" y="3962520"/>
            <a:ext cx="3900240" cy="81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bsorption probability (= 1 - 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 of a photon at a emission frequency 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in direction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447920" y="3581280"/>
            <a:ext cx="6433920" cy="13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rm is the probability that a photon at 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reaches the poin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out being absorb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term is the absorption probability for same photon between poin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the term (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s Doppler effect due to velocity gradient along the 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gral is limit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 where photon falls outside the line profile – it is close to the point where the photon has been emitted (by LVG hypothes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of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LVG approx. 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κ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const. =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2292120" cy="1482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"/>
          <p:cNvPicPr/>
          <p:nvPr/>
        </p:nvPicPr>
        <p:blipFill>
          <a:blip r:embed="rId2"/>
          <a:stretch/>
        </p:blipFill>
        <p:spPr>
          <a:xfrm>
            <a:off x="3733920" y="5334120"/>
            <a:ext cx="289548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bsorption probability is th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↓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6296040" cy="831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1676520" y="4572000"/>
            <a:ext cx="554652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ng over line profile (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Δ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s the local width of the line at half intensity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hange of varia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, we obtai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2362320" y="3168720"/>
            <a:ext cx="4405320" cy="904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1676520" y="5410080"/>
            <a:ext cx="585288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ile 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Φ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s normalized and th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ote tha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ccording to the sign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6994800" cy="927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493848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q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rption co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8037360" cy="957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1828800" y="5029200"/>
            <a:ext cx="50148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oppler effect at the poin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) after which absorption is negligible is such tha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↓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267440" cy="1004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1600200" y="4648320"/>
            <a:ext cx="332100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inal expression for the absorption probability in the direction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scape probability is th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4033800" cy="1052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819520" y="4876920"/>
            <a:ext cx="362412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 over all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ssumptions: plan parallel case                   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= cos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, wher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s the normal to the layers of the mediu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riting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≡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 =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143000" y="4724280"/>
            <a:ext cx="7532640" cy="9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defin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ing the coordinate normal to the layers of the medium and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s the mean optical depth in the line normal to the medium =&gt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2438280" cy="954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2895480" y="5105520"/>
            <a:ext cx="3505320" cy="72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dington approx. 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= average over all directions of the half spa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o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 = 1/3) giv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and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/3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f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2590920" y="3324240"/>
            <a:ext cx="47941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rightness temperature in the line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&lt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T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99452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erm (1-exp(-3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)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llows to us to estimate the photon trapping in th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f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&gt;&gt; 1 (case of CO lines) =&gt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u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an be replaced 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u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pherical case in Eddington approx (de Jong et al. 1975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4740120" cy="14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lane-parallel case, if there is no velocity gradient but with assumption that the radiation field at a given point depends only on local conditions (as in the LVG approx.) the so-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n the sp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pprox. (de Jong et al. 1980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2438280" y="4114800"/>
            <a:ext cx="477360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inhomogeneous or medium of an arbitrary shape  =&gt; LVG approx. cannot be appli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te Carlo method has to be used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17440"/>
            <a:ext cx="81928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thick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↓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, if the source function is uniform along the line of sigh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1828800" cy="1022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4191120" y="2895480"/>
            <a:ext cx="4116240" cy="98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1981080" y="4191120"/>
            <a:ext cx="2675160" cy="995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4"/>
          <a:stretch/>
        </p:blipFill>
        <p:spPr>
          <a:xfrm>
            <a:off x="2057400" y="6095880"/>
            <a:ext cx="561672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General Case; Mas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ing into account ALL important radiative and collisional trans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function for the atom or molecule in LTE for all levels with non-negligible population due to collis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2666880" y="4648320"/>
            <a:ext cx="45324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opul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level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t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total density of the atoms or molecule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412416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rules are in general not the same for radiative and collisional transition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 CO (rad.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= 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ll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= 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high =&gt;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3 is populated from fundamental leve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diative casca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 =&gt; inverse population of level 2 with respect to level 1 =&gt;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e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0 =&gt; weak maser in the CO line if ISM is optically thin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ISM this maser CO line is in the optically thick environment =&gt; this is only academic 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citation temperatures of the 4 lowest rotational transitions of the CO molecule as a function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density in an IS clou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699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isional pumping of IS masers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iative pumping of IS masers (O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damental level of OH is split in two sublevels =&gt; OH doublet at ~ 1660 MHz (18 c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ous doublet observed by radio astron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rotational levels populated by far-infrared continuum emitted by IS dust (119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 and 7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mping between vibration levels (near IR continuum), or from OH lines themselves: in the far IR (rotation lines) or in the near IR (vibration line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lowest energy levels of the OH molecu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257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oretical description of how IS maser works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: three level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ption: statistical weights of these levels are the same =&gt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l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u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pontaneous emission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u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fer equation for the u-l line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600200" y="4876920"/>
            <a:ext cx="606096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iation fiel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s very high in masers =&gt; spontaneous emission &lt;&lt; stimulated e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opulations of the level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e determined  b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) collisions whose rate ar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l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~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u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i) stimulated emission and absorption that we will represen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a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s the solid angle inside which radi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pagates,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ii) radiative transitions between level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3 correspond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to pumping represented by probabilitie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u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962520" y="3733920"/>
            <a:ext cx="227160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equilibrium betwee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↓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is negligibl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5894640" cy="719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65752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TE at temperatur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ltzmann’s la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statistical  weights (numbers of sublevels of levels u and l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– 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J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, J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angular momentum quantum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73716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umping mechanisms are not specified (radiative or collisional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population inversion and maser effec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l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u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inver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uld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2209680" y="4495680"/>
            <a:ext cx="55231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≠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≠ 0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l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ing this in transfer equation =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598920" cy="1055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2590920" y="4800600"/>
            <a:ext cx="328932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cases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~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133720" y="2738520"/>
            <a:ext cx="39859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l-G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&lt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maser is unsaturated and the solution of the transfer equation at the line center 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length of the mas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3429000" y="3581280"/>
            <a:ext cx="43657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temperature no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bkg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brightness temperature of         background of the maser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i="1" lang="el-G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gain of the maser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examp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ity of the line is very sensitive to the physical conditions in the medium and vary rapidly with tim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52401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l-G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gt;&gt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maser is saturated and the solution of the transfer equation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ne intensity is less sensitive to the physical cond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2819520" y="3352680"/>
            <a:ext cx="3965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aturated and saturated masers are extre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aturated – near background continuum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omes progressively saturated as the line intensity increas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adiation of the gain and of the line width as a function of position in an interstellar mase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8024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becomes narrower during progression to the unsaturated part of the ma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line is initially gaussi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ximation for the profile  near the center is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2362320" y="3581280"/>
            <a:ext cx="4581360" cy="990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2286000" y="5334120"/>
            <a:ext cx="4800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-band background source whose temperatu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bkg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es not depend on frequency will form a line with the pro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gaussian profile with disp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becomes narrower and narrower until the line center saturat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broadens until it reaches the initial width if saturation is very strong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619960" cy="762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2"/>
          <a:stretch/>
        </p:blipFill>
        <p:spPr>
          <a:xfrm>
            <a:off x="7238880" y="3809880"/>
            <a:ext cx="1600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arge optical thickness =&gt; Planck func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l-GR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line cen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2493720" cy="855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819520" y="4114800"/>
            <a:ext cx="38606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adiation of the gain and of the line width as a function of position in an interstellar mase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ure agai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48024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l-GR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l-GR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) =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lose </a:t>
            </a:r>
            <a:r>
              <a:rPr b="0" i="1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lumn density                      (number of atoms in a cylinder of unit cross-section along the line of sight unit: atoms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2971800" cy="15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1676520" y="2743200"/>
            <a:ext cx="3200400" cy="89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3962520" y="3429000"/>
            <a:ext cx="4965480" cy="92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4"/>
          <a:stretch/>
        </p:blipFill>
        <p:spPr>
          <a:xfrm>
            <a:off x="3733920" y="4876920"/>
            <a:ext cx="20016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Rayleigh-Jeans Approximation: Radioastronomy Not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2922480" cy="1218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839484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citation tempera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ized spectral distribution 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u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 of the intensity of the one emissio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bsorption coefficient for on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2971800" cy="1082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1523880" y="4657680"/>
            <a:ext cx="583272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4:47:21Z</dcterms:created>
  <dc:creator>Astronomija</dc:creator>
  <dc:description/>
  <dc:language>en-US</dc:language>
  <cp:lastModifiedBy>korisnik</cp:lastModifiedBy>
  <dcterms:modified xsi:type="dcterms:W3CDTF">2017-10-23T15:15:58Z</dcterms:modified>
  <cp:revision>63</cp:revision>
  <dc:subject/>
  <dc:title>Radiative Transfer and Excitation</dc:title>
</cp:coreProperties>
</file>