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3.wmf" ContentType="image/x-wmf"/>
  <Override PartName="/ppt/media/image22.wmf" ContentType="image/x-wmf"/>
  <Override PartName="/ppt/media/image5.png" ContentType="image/png"/>
  <Override PartName="/ppt/media/image29.wmf" ContentType="image/x-wmf"/>
  <Override PartName="/ppt/media/image11.png" ContentType="image/png"/>
  <Override PartName="/ppt/media/image6.png" ContentType="image/png"/>
  <Override PartName="/ppt/media/image10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wmf" ContentType="image/x-wmf"/>
  <Override PartName="/ppt/media/image27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C2D-DB27-43A7-BB3A-6103CFE5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795-709D-4944-ABFE-73CE89D1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504-8546-4A3D-8667-C0B8D95E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6B3-D2B1-406D-8B77-331C95AA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B6B6-7EB4-4C0C-A179-5206BC92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F8D2-F68D-4F1B-A2A0-01E732F5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4426-BC92-41F6-847C-3E98D38A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F51E-A679-4C82-AD45-77E7B619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CD74-B370-42F7-8937-205AF02F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660F-CBC8-4182-92C7-57F76DD6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6D49-AFE8-4B5B-896A-2D19A4F3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DED-BF8F-4C78-BD35-A9E4D806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4619-8FA4-40D7-B6E5-947A04F7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E416-D6DB-401F-9D9C-3F677D18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D978-F0CD-4FB3-97E0-2DE8AF6E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A8FC-C031-4A67-A1F9-4746AFFB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0606-7095-49BF-85C1-181DEEC6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F6B-E33C-4960-A931-445EAF3E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DD7-6425-4E44-937D-E8986F0D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F69-E910-4EB7-913F-2EDD1E96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17E2-8D70-4205-B9B2-27AB15FA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CCA-5A4E-4181-9DF6-A4DDD99A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942D-E5ED-4FCF-87D0-16A061C7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35F-8B06-4105-A49E-7EAF0430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3AF0-9CB1-40FF-9466-CDCE65039D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EE64-4CA3-4F5B-A462-F5EC3A78F5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Forbidden Lin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875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 IR transitions of OIII are optically thin and their frequencies are relatively high for far IR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nd depopulation of leve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057400" y="3505320"/>
            <a:ext cx="4648320" cy="801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2133720" cy="407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962520" y="4648320"/>
            <a:ext cx="4645080" cy="401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2514600" y="5919840"/>
            <a:ext cx="3459240" cy="938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7080" y="5257800"/>
            <a:ext cx="744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maxwellian distribution of free electr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atio increases with density until it reaches the LTE ratio at high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energies of transitions are small with respec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2971800" cy="1228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526248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on density can be determined from this ratio as well as abundance of OIII from intensity from one of these lin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is method is shown that HII regions exhibit large density fluc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, forbidden lines, recombination lines, free-free and free-bound continua originate in high-density regions of ISM because their emissivity is proportional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ntensity ratio between two forbidden far IR OIII lines. The line ratio is almost independent of temperature (Rubin 1989)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09588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tical transitions – nebular OIII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from the same upper level and are always in the same ratio = 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 of any of these lines can be used for determination of abundance of OIII provided that both the temperature and density are know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tical transition – auroral OIII line at 436.3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nsity ratio between this line and one of the nebular line (or the rati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sum of two nebular lines) can be calculated at the same way as for far IR OIII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numerical values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00200" y="4952880"/>
            <a:ext cx="5486400" cy="874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143000" y="5715000"/>
            <a:ext cx="648000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 temperature corresponds to the region where oxygen exists as O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roral line can only be observed when the temperature is sufficiently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, it is difficult to obtain the electron temper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ly for optical lines of 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n previous case, temperature corresponds to the region where nitrogen is mostly in the form of NI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NII] is lower th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II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19320" y="2408400"/>
            <a:ext cx="5543280" cy="20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Line Ratios as Density Prob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level diagram of S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ne ratio j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716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j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7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most no dependence on temperature; identical excita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e can wr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28800" y="3797280"/>
            <a:ext cx="4844880" cy="806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3806640" cy="750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800600" y="5562720"/>
            <a:ext cx="3807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ing previous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low density limit =&g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a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a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↓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6 and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4, line rati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3/2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986280" cy="742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542772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optical spectrum of the Orion nebula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(Baldwin et al 1991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71500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high density limit =&g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&g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a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a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↓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3230640" cy="682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181480" y="2438280"/>
            <a:ext cx="351972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I region or SN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SII]/H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&gt; 0.4 =&gt; SN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SII]/H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&lt; 0.4 =&gt; HII re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[SII], both lines – 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 and R bands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lue and gre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337680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Abundance Determinations in HII region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I regions are ideal places to determine the abundances from recombination and forbidden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, C, N, O, Ne, S, Cl, Ar, 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nes of many more elements are observable in several PNe where the lines are very in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re are problems in determination of abundances in HII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undance are given relatively to H which is observed by its recombination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abundant elements give observable recombination line with similar physical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, C, N, O lines are very wea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ainter recombination lines of rarer elements have been detected recently (Esteban et al. 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undance derived from the forbidden lines in the visible are sensitive to both – temperature and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pretation of the line intensity is delicat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OIII and NII method if temperature fluctuations exist can yield systematic errors in the abund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t seems that this fluctuations are not very important in gener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undances derived from mid- and far- IR fine structure lines are not sensitive to electron temperature and are little affected by exti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considerable advantages with respect to the optical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ellite observations in rec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between results obtained from IR and from op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density much smaller for IR than for visible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ndances derived from IR lines are underestimated if the density is high – effect especially large for PN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elements (except H) exist in several ionization states in HII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determine only abundances of ions that emit observable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observed ion is the major species the situation is more favorable since we can calculate abundances of the unobserved ions of the sam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exists if high precision required as in the case of He because of its cosmological importance. Some fraction of helium can exist as HeI which is unobserva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helium, the abundance of oxygen is best determined (methods is explained previously)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Diffuse Ionized Ga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te from HII regions, champagne effect, UV radiation from isolated hot st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more mass than the HII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total mass ~ 1/3 of that of 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mponent is observed by several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ion measure =&gt;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~ 0.03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nce of Diffuse ionized medium from IS scintillation of radio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 structure lines of NII at 122 and 205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originating from the diffuse ionized medium, also absorption lines of NII in U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dio free-free and synchrotron emission showing the existence of diffuse ionized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dio recombination lines of H at low frequencies, eg. H166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1.44 GH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est method – observations of optical recombination and forbidden lines outside of HII regions (H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NII]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SII]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nsity of H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es decreases with increasing latitude and medium is rather 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s of diffuse ionized gas can be obtained by comparing the wid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[SII] lines ~ 8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medium is almost fully ionized (except if observed fraction of [OI] line is produced in a sh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s are higher than 8000 K in regions of small density and increase with distance from the galactic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er temperature are in part responsible for the enhancement  in the [NII]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SII]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e ratio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ce of another source of heating than stellar radiation – dissipation of plasma turbul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very strong lines emitted by HII regions were identified by Bowen in 1926 as forbidden transitions of 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ulti-electron ions have low lying energy levels that are easier to exci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ision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in the case of  H atom =&gt; radiative de-excitation in low density mediu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ow density medium there is no dependence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1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orbidden lines are treated on an equal footing with the permitted lin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OII, NII, SII, O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Hot Ga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tzer (1956) suggested the existence of hot ga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use soft X-ray emission (&lt; 1 ke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ption lines of OVI in UV observed by COPERNICUS (originated not from circumstellar envelopes of hot st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NV and C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Rs and bub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of McKee and Ostriker (19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Colissional Ionization by Electrons at High Temperatur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adiative ionization to OVI necessary photon must be at energy of 114 eV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very difficult radiatively, but it is possible by atom-atom collisions at high 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I is abundant (through its absorption lines in UV) at  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II and OVIII ions (soft X-ray lines are observed in emission) are abundant at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Fe, Mg, Ne, S, Si are observed in 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66"/>
                </a:solidFill>
                <a:latin typeface="Arial"/>
              </a:rPr>
              <a:t>Hot gas at 0.3 keV (3.5 x 10</a:t>
            </a:r>
            <a:r>
              <a:rPr b="1" lang="en-US" sz="1600" spc="-1" strike="noStrike" baseline="30000">
                <a:solidFill>
                  <a:srgbClr val="330066"/>
                </a:solidFill>
                <a:latin typeface="Arial"/>
              </a:rPr>
              <a:t>6 </a:t>
            </a:r>
            <a:r>
              <a:rPr b="1" lang="en-US" sz="1600" spc="-1" strike="noStrike">
                <a:solidFill>
                  <a:srgbClr val="330066"/>
                </a:solidFill>
                <a:latin typeface="Arial"/>
              </a:rPr>
              <a:t>K, red) to 5 keV (blue) observed by XMM-NEWTON (Dennerl et al. 2001)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371600" y="1838160"/>
            <a:ext cx="5715000" cy="5019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3520" y="222120"/>
            <a:ext cx="738828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 gas in ionization equilibri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tion is a very slow process at the very small densitie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&lt;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 time for recombination of CV and CIV ~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r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ization non-equilibrium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s are much lower than for equilibrium model and for temperatures obtained from observations of X-ray continu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existing data the right choice between these models can not be don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Ionization structure of O at equilibrium; the same outside of equilibrium in cooling plasma (Schmutzler and Tscharnuter 1993)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3971880" cy="3762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267080" y="2590920"/>
            <a:ext cx="410364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Emission of X-ray Lin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tc. layers starting from the deepest one that contains 2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electron is ionized from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yer of heavy atom by photons or collisionaly, hole left in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can be filled by an electron belonging to an outer layer, with emission of X-ray phot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-ray absorption lines are not produced as optical absorption lines – because of making of holes and following by X-ray emission from an outer lay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Energy diagram of X-ray lines (Born 1962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02316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equency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ine, so-cal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eley la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creening const. ~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charged atoms also emit forbidden lines in X-r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ly in solar corona, after that in hot gas of IS shocks in SNRs and in general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94360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Thermal X-ray Continuum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 gas emits a bremsstrahlung and a free-bound e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depth being always small in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ape of the observed spectrum allows to measur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Result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ypothesis of a pressure equilibrium between clouds and HIM is controversial… =&gt; volume filling factor of HIM in  Galactic disk is poorly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% in the plane of symmetry, 80-90% at 2 kpc above (Ferriere 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observations in X-ray continuum are obtained that the Local hot bubble is at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, with density 0.004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t pressure 16500 K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 Boer and Kerp 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few levels of these atoms have energies ~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ebulae (also in AGNs and quas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ral lines associated with these low-lying energy levels are ideal diagnostics  of the physical conditions in thes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ity and temperature can be measured from ratio of spectral line intens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SE satellite – observations of OVI absorption lines =&gt; at 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, density is ~ 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density in HIM is certainly hig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ale height of OVI above the disk  is very high, 2.3 to 4 kpc; NV 3.9 kpc, CIV 4.4 kpc, SiIV 5.1kp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I associated with high velocity HI clouds has been observed with FUSE – that could result from heating of their surface by conduction of hot gas within which they are immers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X-ray Absorptio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an information on the total column density of ISM with little dependence of its physical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material not fully ionized in front of a X-ray source absorbs its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II and HeII are completely ionized than do not absorb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nergies between 0.5 – 2 keV, the X-ray absorption is dominated by heavy elements: primary O and secondary C and 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-ray absorption is proportional to HI column den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Energy levels of OII, OIII, SII and NII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8802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ransitional rates and critical densitie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4800600" cy="2691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09480" y="4351320"/>
            <a:ext cx="5791320" cy="2403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172200" y="1905120"/>
            <a:ext cx="243828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H</a:t>
            </a:r>
            <a:r>
              <a:rPr b="0" i="1" lang="el-GR" sz="2000" spc="-1" strike="noStrike">
                <a:solidFill>
                  <a:srgbClr val="330066"/>
                </a:solidFill>
                <a:latin typeface="Arial"/>
                <a:ea typeface="Arial"/>
              </a:rPr>
              <a:t>α</a:t>
            </a:r>
            <a:r>
              <a:rPr b="1" i="1" lang="en-US" sz="2000" spc="-1" strike="noStrike">
                <a:solidFill>
                  <a:srgbClr val="33006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330066"/>
                </a:solidFill>
                <a:latin typeface="Arial"/>
                <a:ea typeface="Arial"/>
              </a:rPr>
              <a:t>(green), SII (partially in red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58760"/>
            <a:ext cx="8153280" cy="52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219320" y="1519200"/>
            <a:ext cx="67816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bidden transitions of OIII ions are of three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r IR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ptical transitions (nebular li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ptical transitions (auroral 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Energy diagram for lowest levels of OIII. All indicated transitions are forbidden. Nevertheless, they are very intense in HII regions.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67820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1:17:25Z</dcterms:created>
  <dc:creator> Dejan Urosevic</dc:creator>
  <dc:description/>
  <dc:language>en-US</dc:language>
  <cp:lastModifiedBy>Administrator</cp:lastModifiedBy>
  <dcterms:modified xsi:type="dcterms:W3CDTF">2013-11-18T14:55:04Z</dcterms:modified>
  <cp:revision>43</cp:revision>
  <dc:subject/>
  <dc:title>The Forbidden Lines</dc:title>
</cp:coreProperties>
</file>