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5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701-4FEF-47E4-8B99-FB93309A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C4A-72BB-46A6-8B6A-E93CE3F8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F76-B50E-4BC6-8E39-0C4B7F26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D0B-840E-4EA1-8571-884CC63F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E69A-FE5E-47A5-A1B8-CF2CE6F9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A414-094A-4ED0-BA20-50700696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48A4-9B34-46EA-BAF1-D3D1F68A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2555-0A0F-44C0-B574-399150EE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51E2-62B1-45E9-B14C-C96643B4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D401-65E6-49B7-A56C-B21D8414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D80F-736B-4490-BBDC-01335C99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1F1-187F-4971-A160-BAB9FB94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E9F0-13FA-43FC-A106-0F72FC0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37EC-8210-4878-B35A-B05D052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AE4B-9D80-4AF2-9218-989FBB2B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E767-58A7-44F9-92D6-505077E1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962B-3BF6-4FDB-A3C6-36883A06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2A6-F2E8-4D50-B1E6-E2565D68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EAD-7426-4718-B9DD-B703E0A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2E5-D0F7-4362-B2FC-22A1B040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39E-7258-45C4-B13C-61E12A84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47F-E769-4446-9D68-202282AD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CFF-C400-4EAC-82F4-F107808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39F-B5B9-4E7B-917D-34ACE1E1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A83D-6CE9-4B20-A8C6-D4A4BC519D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548A-0B75-44C4-9F38-1972574DFA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mma Ray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 of CR particles with the ISM produces gamma-ray photon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uclear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ems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verse Compton scat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Gamma-Ray Observations to Determine the Mass of the ISM in the Gala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 observations, eg. recently: EGRET, the angular resolution ~ one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produced by the nuclear reactions and bremsstrahlung ~ density x CR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msstrahlung dominates at energies &lt; 70 MeV;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ay at high en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verse Compton effect is a small correction easy to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mma-rays are formed in atomic, molecular, or ionized medium; medium is optically thin for gamma-photons; flux of CRs must be known =&gt; mass of the ISM!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09480" y="39600"/>
            <a:ext cx="78264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um of the diffuse X-ray and gamma-ray emission of the central radian of the galactic plane (Purcell et al.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7320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ly thick medium for gamma-rays (relatively thick, large objects): stars, planets, very dense small IS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of dense clouds with large column density =&gt; part of possible baryonic dark matter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y between gamma-ray maps and the HI and CO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problems in CR flux determination for estimation of emissivity of gamma-rays; we do not know if CO column density is representative for molecular component,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he Virial Mass of Molecular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equilibrium between self gravity and dynamic pressure of the macroscopic random motion of the gas (often much larger than the thermal pressure) =&gt; estimation of mass using the virial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pherical, uniform and isolated cloud with zero magnetic field and no external pres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the width of the macroscopic random motion of the gas and R is the external radius of the clou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590920" y="4419720"/>
            <a:ext cx="37638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ted intensity of the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(1-0)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that the dust and gas are well mixed, using extinction of the light from background stars, we can obtain column density of the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 density of the gas by assuming a gas/dus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2251080" cy="44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3733920" y="2209680"/>
            <a:ext cx="4716360" cy="40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990720" y="2895480"/>
            <a:ext cx="4709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the correlation between the extinction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dust is smoothed at small scales while the CO emission is much more fragm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robably the main reason for the dispersion  in the extinction/CO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given value of exti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vary by a factor 5 at small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mechanism able to decouple dust from gas at small scales, or there are large fluctuations in the abundance and excitation of CO (this in low density regions), or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between visual extinction and integrated intensity of the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1-0) line in the L977 molecular cloud. At extinctions larger than 10 mag, the line intensity is no longer ~ extinction, probably because CO condenses onto grains (Alves et al.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0292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illimetre/Submillimetre  Dust Emiss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 emits thermal continuum and the brightness of the dust cloud at mm wavelengths with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orption cross section of the dust per H nucleu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excellent method for comparison of dust emission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gr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ture is predicted for this model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25704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and Mid-IR Absor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DRA and XMM-NEW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of X-ray absorption into a column density of H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observations of mid-IR absorption in front of sources embedded inside molecular clouds, or located in the background =&gt; the column density of absorption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problem in mass determination: diffuse “atomic” medium in fact contains important quantitie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C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or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lient to photodissociation than 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-Ray Production by Nuclear Interaction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glect p-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p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-p interactions → charged mesons (pions)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ompose into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mions) and neutri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electrons and positrons and neutrinos (this is process of formation of cosmic positr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two gamma photons of equal ener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mma-Ray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interaction of CRs with IS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nuclei can be stationary IS nuclei or CR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11 keV photons created by positron-electron annih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of these lines have been observed in the ISM, and many more in solar e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tronomy of gamma-ray lines are strongly developed by the observations with the INTEGRAL satell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types of gamma-ray lines are expected to be observed in the 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emitted following the excitation of nuclei by protons or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3086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citation cross-section peaks for incident particle energy ~ 10 MeV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ross-section decreases rapidly with increasing energy until 100 MeV/n, at which nuclei disinteg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lines are good indicators of the flux of low-energy CRs (from 5 to 50 MeV/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sently, we know almost nothing of these particles  due to solar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s emitted following spallation reactions – produced light elements are often in a nuclear excit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action of excited nuclei by spallation is unkn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 for these reactions is higher than for direct impact exc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s produced by impact of CR particles with heavy IS nuclei are narrow – the velocity of these nuclei remains small after the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s produced by the de-excitation of CR nuclei produced by spallation are very broad due to their high velo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ay lines of radioactive nuclei – produced in stars, in particular in SN explosions, and by spallation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g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lifetime of excited level 1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r; de-excitation o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g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s a 1.809 MeV ph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lines have already been observed in SN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of the distribution of the galactic emission in the 1.809 MeV line, by COMPTEL instrument on board the GRO satellite (Knodlseder et al. 1999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8839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t for the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line, examples are (the detected lines are underlin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lines are narrow because the radioactive nuclei have time to thermalize before dec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nucleosynthesis theories, determination of location of the birth place of massive stars in the Galaxy, e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511 keV electron-positron annihilat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amma-ray photons of 511k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use emission has been observed in the region of the galactic centre (Prantzos 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ns produced by the annihilation of high-energy CR positrons are not observable because of the very large width of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served lines are obtained by positrons produced by th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cay of the radioactive products of SN explo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sponsible nuclei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 and with small contribution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on rate of positrons 1.5±0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nnihilation time is very long in the ISM ~ at   leas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yr – positrons have time to diffuse far from their sources!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neutral pions ~ ½ that of the charged p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of neutral 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1/10 of the proton energy for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10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mma-ray photons are of equal energies 1/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68 M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reference system of the p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36813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reference system of the ob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ion rate of gamma-rays per unit volume in all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ditional probability for obtaining a pair of photons of energ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om a pion of energ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density and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4425840" cy="80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019920" y="2471760"/>
            <a:ext cx="2536560" cy="37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83059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revious Eq. we can calculate gamma-ray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wer-law with the slope similar to the slope of CR protons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mma-rays are also produced in interaction of CRs with IS atoms heavier than hydrogen – the production rate should be multiply by 1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issivity per H atom and per 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nsity for a direction with H column dens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uming a uniform flux of C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066680" y="4572000"/>
            <a:ext cx="5613480" cy="47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7315200" y="5334120"/>
            <a:ext cx="15606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spectra of gamma-rays (Bloemen 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500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-Ray Production by Bremsstrah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ing of high energy CR electrons by IS nuclei and electrons =&gt; the bremsstrahlung gamma-ray emission by C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 energy version of the free-free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lectrons with the power-law energy spectrum  the energy spectrum of emitted gamma-rays has a similar power-law ~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1)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ty of bremsstrahlung radiation ~ ¼ of radiation produced by nuclea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emsstrahlung radiation becomes progressively more important at lower energ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-Ray Production by the Inverse Compto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elastic scattering of high-energy electrons by low-energy ph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oton energy after scatt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of ~ 200 GeV =&gt; emission of photons of 100 MeV (from interaction with CMB phot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ctrum of gamma-rays produced by inverse Compton effect is again power-law but different than the spectrum of CR electrons  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verse Compton effect contributes only 10% of the production of gamma-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185724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ss of the 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mma-ray emission of the ISM ~ the mass of the 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f ISM physical state: neutral, ionized, or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with the results of the oth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09:15:45Z</dcterms:created>
  <dc:creator> Dejan Urosevic</dc:creator>
  <dc:description/>
  <dc:language>en-US</dc:language>
  <cp:lastModifiedBy>Administrator</cp:lastModifiedBy>
  <dcterms:modified xsi:type="dcterms:W3CDTF">2014-11-07T13:16:23Z</dcterms:modified>
  <cp:revision>37</cp:revision>
  <dc:subject/>
  <dc:title>The Gamma Ray Continuum</dc:title>
</cp:coreProperties>
</file>